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87C-E910-4E81-BD4C-74073A31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D09-7EEC-4BD5-AA5C-FE223DED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4F1-7795-4218-862C-5BFAB9A0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76C-C080-46D0-9D9E-75C0B880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ADB-4347-4A83-BD18-62F8096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2C0-3AAE-4569-9728-C0B2FCBA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16-BD37-49BF-84A0-DE670B77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957-9DA1-44CF-8D86-6D0BE039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195-D2E6-4450-881C-E0D64D6A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A40-B859-440C-8811-A2E8C4D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4A2-E463-4198-8933-630ED34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836-2C4F-47C0-A71E-228EB0F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05A-22AA-4552-86BB-7480B31A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hyperlink" Target="file:///tmp/home/.config/libreoffice/4/user/gallery/breeze.wav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hyperlink" Target="file:///tmp/home/.config/libreoffice/4/user/gallery/breeze.wav" TargetMode="External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file:///tmp/home/.config/libreoffice/4/user/gallery/breeze.wav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hyperlink" Target="file:///tmp/home/.config/libreoffice/4/user/gallery/breeze.wav" TargetMode="External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edians of Triangl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A 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edian</a:t>
            </a:r>
            <a:r>
              <a:rPr b="1" lang="en-GB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 of a triangle is a line from a vertex to the mid-point of the opposite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riangle has 3 medians which meet at a point called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ntr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This is also the centre of gravity of the shap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4120" y="2585880"/>
            <a:ext cx="2990880" cy="2186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13160" y="2468520"/>
            <a:ext cx="20890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19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409400" y="2727000"/>
            <a:ext cx="723960" cy="9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4240" y="2216160"/>
            <a:ext cx="1409760" cy="509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125880" y="2604960"/>
            <a:ext cx="287172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851440" y="2475000"/>
            <a:ext cx="2927520" cy="23810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4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secting Lin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 already know that when two lines intersect their point of intersection can be found by simultaneously solving a pair of </a:t>
            </a:r>
            <a:r>
              <a:rPr b="1" lang="en-GB" sz="2000" spc="-1" strike="noStrike">
                <a:solidFill>
                  <a:srgbClr val="6600ff"/>
                </a:solidFill>
                <a:latin typeface="Arial"/>
              </a:rPr>
              <a:t>“linear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re is a reminder of how this can be don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Solving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Solving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j0078809" descr=""/>
          <p:cNvPicPr/>
          <p:nvPr/>
        </p:nvPicPr>
        <p:blipFill>
          <a:blip r:embed="rId1"/>
          <a:stretch/>
        </p:blipFill>
        <p:spPr>
          <a:xfrm>
            <a:off x="6361200" y="2392200"/>
            <a:ext cx="1552320" cy="11336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2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ne is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76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ou will see that the “best” method is dependent upon the equations in question, generally if one of the equations has either an x or a y coefficient of 1 then the substitution method is easier, however it all depends on the numbers involve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383160" y="2112840"/>
            <a:ext cx="2082960" cy="254340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rId2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ooking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651280" y="2708280"/>
            <a:ext cx="3024360" cy="2089080"/>
            <a:chOff x="5651280" y="2708280"/>
            <a:chExt cx="3024360" cy="2089080"/>
          </a:xfrm>
        </p:grpSpPr>
        <p:sp>
          <p:nvSpPr>
            <p:cNvPr id="45" name=""/>
            <p:cNvSpPr/>
            <p:nvPr/>
          </p:nvSpPr>
          <p:spPr>
            <a:xfrm flipH="1" flipV="1">
              <a:off x="5651280" y="2708280"/>
              <a:ext cx="43308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2000" y="3716280"/>
              <a:ext cx="26636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 – axis Intercep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11280" y="2781360"/>
            <a:ext cx="3889440" cy="2016000"/>
            <a:chOff x="611280" y="2781360"/>
            <a:chExt cx="3889440" cy="2016000"/>
          </a:xfrm>
        </p:grpSpPr>
        <p:sp>
          <p:nvSpPr>
            <p:cNvPr id="49" name=""/>
            <p:cNvSpPr/>
            <p:nvPr/>
          </p:nvSpPr>
          <p:spPr>
            <a:xfrm flipV="1">
              <a:off x="3708360" y="2781360"/>
              <a:ext cx="45072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611280" y="3716280"/>
            <a:ext cx="3889440" cy="10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3716280"/>
                      <a:ext cx="3889440" cy="10810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52" name=""/>
          <p:cNvSpPr/>
          <p:nvPr/>
        </p:nvSpPr>
        <p:spPr>
          <a:xfrm>
            <a:off x="1763640" y="198900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y = mx +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7920" y="859140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istance Formula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72160" y="2489040"/>
            <a:ext cx="3999960" cy="2523600"/>
            <a:chOff x="4772160" y="2489040"/>
            <a:chExt cx="3999960" cy="2523600"/>
          </a:xfrm>
        </p:grpSpPr>
        <p:grpSp>
          <p:nvGrpSpPr>
            <p:cNvPr id="58" name=""/>
            <p:cNvGrpSpPr/>
            <p:nvPr/>
          </p:nvGrpSpPr>
          <p:grpSpPr>
            <a:xfrm>
              <a:off x="4772160" y="2489040"/>
              <a:ext cx="3999960" cy="2523600"/>
              <a:chOff x="4772160" y="2489040"/>
              <a:chExt cx="3999960" cy="25236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4772160" y="2489040"/>
                <a:ext cx="3917880" cy="1771920"/>
                <a:chOff x="4772160" y="2489040"/>
                <a:chExt cx="3917880" cy="177192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5288040" y="2946960"/>
                  <a:ext cx="2320920" cy="131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72160" y="3405240"/>
                  <a:ext cx="13827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(x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y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307640" y="2489040"/>
                  <a:ext cx="1382400" cy="77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(x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,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5291280" y="2959560"/>
                <a:ext cx="3480840" cy="2053080"/>
                <a:chOff x="5291280" y="2959560"/>
                <a:chExt cx="3480840" cy="2053080"/>
              </a:xfrm>
            </p:grpSpPr>
            <p:sp>
              <p:nvSpPr>
                <p:cNvPr id="64" name=""/>
                <p:cNvSpPr/>
                <p:nvPr/>
              </p:nvSpPr>
              <p:spPr>
                <a:xfrm flipV="1">
                  <a:off x="7629480" y="2959560"/>
                  <a:ext cx="1080" cy="132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291280" y="4313520"/>
                  <a:ext cx="232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421400" y="4112280"/>
                  <a:ext cx="188640" cy="199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84840" y="4243320"/>
                  <a:ext cx="13824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x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2 </a:t>
                  </a: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– x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389720" y="3337920"/>
                  <a:ext cx="13824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   </a:t>
                  </a: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y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2 </a:t>
                  </a: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– y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7088040" y="4162320"/>
              <a:ext cx="13827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24360" y="1916280"/>
            <a:ext cx="4895640" cy="3960720"/>
            <a:chOff x="3924360" y="1916280"/>
            <a:chExt cx="4895640" cy="3960720"/>
          </a:xfrm>
        </p:grpSpPr>
        <p:sp>
          <p:nvSpPr>
            <p:cNvPr id="71" name=""/>
            <p:cNvSpPr/>
            <p:nvPr/>
          </p:nvSpPr>
          <p:spPr>
            <a:xfrm>
              <a:off x="4798800" y="2098800"/>
              <a:ext cx="0" cy="34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608000" y="5178600"/>
              <a:ext cx="355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37240" y="5094360"/>
              <a:ext cx="13827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1916280"/>
              <a:ext cx="13824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1880" y="5111640"/>
              <a:ext cx="13827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632760" y="1386360"/>
            <a:ext cx="16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ythagoras’ Theor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2440" y="2541600"/>
            <a:ext cx="4161240" cy="1541520"/>
            <a:chOff x="442440" y="2541600"/>
            <a:chExt cx="4161240" cy="1541520"/>
          </a:xfrm>
        </p:grpSpPr>
        <p:sp>
          <p:nvSpPr>
            <p:cNvPr id="78" name=""/>
            <p:cNvSpPr/>
            <p:nvPr/>
          </p:nvSpPr>
          <p:spPr>
            <a:xfrm>
              <a:off x="442440" y="2541600"/>
              <a:ext cx="400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is is really just Pythagoras’ Theorem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569880" y="3367080"/>
            <a:ext cx="4033800" cy="7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9880" y="3367080"/>
                      <a:ext cx="40338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>
            <a:hlinkClick r:id="rId3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Gradi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70160" y="3456000"/>
            <a:ext cx="1602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– y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4240" y="4676760"/>
            <a:ext cx="16016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– x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2394000"/>
            <a:ext cx="3921120" cy="2678040"/>
            <a:chOff x="0" y="2394000"/>
            <a:chExt cx="3921120" cy="2678040"/>
          </a:xfrm>
        </p:grpSpPr>
        <p:sp>
          <p:nvSpPr>
            <p:cNvPr id="86" name=""/>
            <p:cNvSpPr/>
            <p:nvPr/>
          </p:nvSpPr>
          <p:spPr>
            <a:xfrm>
              <a:off x="682560" y="4773600"/>
              <a:ext cx="27370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2394000"/>
              <a:ext cx="3921120" cy="2678040"/>
              <a:chOff x="0" y="2394000"/>
              <a:chExt cx="3921120" cy="267804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647640" y="2808000"/>
                <a:ext cx="2808360" cy="20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038480"/>
                <a:ext cx="14288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(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y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125800" y="2394000"/>
                <a:ext cx="167292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(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3390840" y="2904840"/>
                <a:ext cx="1800" cy="19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71960" y="4498920"/>
                <a:ext cx="223560" cy="29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62240" y="4676760"/>
                <a:ext cx="758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55480" y="978480"/>
            <a:ext cx="66420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ope of a line is described by its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adient of the straight line through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6880" y="1919160"/>
            <a:ext cx="443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dient of AB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18000" y="2530440"/>
          <a:ext cx="36226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2530440"/>
                    <a:ext cx="3622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15120" y="3746520"/>
          <a:ext cx="22809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3746520"/>
                    <a:ext cx="2280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421240" y="5030640"/>
          <a:ext cx="133992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1240" y="5030640"/>
                    <a:ext cx="1339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1120" y="5583240"/>
          <a:ext cx="444672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120" y="5583240"/>
                    <a:ext cx="4446720" cy="968400"/>
                  </a:xfrm>
                  <a:prstGeom prst="rect">
                    <a:avLst/>
                  </a:prstGeom>
                  <a:ln w="38160">
                    <a:solidFill>
                      <a:srgbClr val="ff00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105" name="">
            <a:hlinkClick r:id="rId9"/>
          </p:cNvPr>
          <p:cNvSpPr/>
          <p:nvPr/>
        </p:nvSpPr>
        <p:spPr>
          <a:xfrm>
            <a:off x="7972560" y="59641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9440" y="1067040"/>
            <a:ext cx="8335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s that slope up from left to right have a positive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s that slope down from left to right have negative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lines ( parallel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 have gradient of zero and equations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lines ( parallel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) have gradient which is undefined and equations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ines have the same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dient of a line is the tangent of th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kes with the positive direc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Gradient Fact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22640" y="1569960"/>
            <a:ext cx="3714480" cy="391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3680" y="2108160"/>
            <a:ext cx="3565800" cy="410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2760" y="2908440"/>
            <a:ext cx="4498920" cy="30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51320" y="3971880"/>
            <a:ext cx="4703760" cy="2649600"/>
            <a:chOff x="4351320" y="3971880"/>
            <a:chExt cx="4703760" cy="2649600"/>
          </a:xfrm>
        </p:grpSpPr>
        <p:sp>
          <p:nvSpPr>
            <p:cNvPr id="113" name=""/>
            <p:cNvSpPr/>
            <p:nvPr/>
          </p:nvSpPr>
          <p:spPr>
            <a:xfrm>
              <a:off x="6603840" y="4329000"/>
              <a:ext cx="3240" cy="229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83200" y="5751360"/>
              <a:ext cx="2570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434280" y="4646520"/>
              <a:ext cx="1746000" cy="168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8720" y="3971880"/>
              <a:ext cx="7621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2960" y="5600880"/>
              <a:ext cx="762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78600" y="5437080"/>
              <a:ext cx="765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1800" y="5522760"/>
              <a:ext cx="7621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5800" y="5315040"/>
              <a:ext cx="82152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4351320" y="5230800"/>
            <a:ext cx="1973160" cy="585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51320" y="5230800"/>
                      <a:ext cx="19731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7294680" y="5256360"/>
            <a:ext cx="411120" cy="583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94680" y="5256360"/>
                      <a:ext cx="41112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2131920" y="3808440"/>
            <a:ext cx="3967200" cy="27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4011480" y="3708360"/>
            <a:ext cx="4610160" cy="31496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10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Gradient of perpendicular li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3160" y="1065240"/>
            <a:ext cx="874872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Conje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f two lines with gradients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and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are perpendicular then 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×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= -1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200" y="1814400"/>
            <a:ext cx="87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hen rotated through 90º about the origin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A (a, b)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→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B (-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57680" y="3065400"/>
            <a:ext cx="2293920" cy="2235240"/>
            <a:chOff x="2857680" y="3065400"/>
            <a:chExt cx="2293920" cy="2235240"/>
          </a:xfrm>
        </p:grpSpPr>
        <p:sp>
          <p:nvSpPr>
            <p:cNvPr id="132" name=""/>
            <p:cNvSpPr/>
            <p:nvPr/>
          </p:nvSpPr>
          <p:spPr>
            <a:xfrm>
              <a:off x="3765600" y="3195360"/>
              <a:ext cx="13860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396800">
              <a:off x="4321440" y="4451040"/>
              <a:ext cx="188640" cy="163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564000" y="3417840"/>
              <a:ext cx="806400" cy="12081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6880" y="3065400"/>
              <a:ext cx="13860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B(-b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57680" y="4667040"/>
              <a:ext cx="13860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59320" y="3443040"/>
              <a:ext cx="0" cy="130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65600" y="3497400"/>
            <a:ext cx="2739960" cy="1788480"/>
            <a:chOff x="3765600" y="3497400"/>
            <a:chExt cx="2739960" cy="1788480"/>
          </a:xfrm>
        </p:grpSpPr>
        <p:sp>
          <p:nvSpPr>
            <p:cNvPr id="139" name=""/>
            <p:cNvSpPr/>
            <p:nvPr/>
          </p:nvSpPr>
          <p:spPr>
            <a:xfrm flipV="1">
              <a:off x="4351320" y="3917520"/>
              <a:ext cx="1449360" cy="7218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0000" y="3497400"/>
              <a:ext cx="13856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A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560" y="4654440"/>
              <a:ext cx="1386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65600" y="3705120"/>
              <a:ext cx="1386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05360" y="3952800"/>
              <a:ext cx="15840" cy="837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138120" y="2492280"/>
            <a:ext cx="4189680" cy="2624040"/>
            <a:chOff x="3138120" y="2492280"/>
            <a:chExt cx="4189680" cy="2624040"/>
          </a:xfrm>
        </p:grpSpPr>
        <p:sp>
          <p:nvSpPr>
            <p:cNvPr id="145" name=""/>
            <p:cNvSpPr/>
            <p:nvPr/>
          </p:nvSpPr>
          <p:spPr>
            <a:xfrm>
              <a:off x="4395600" y="2637720"/>
              <a:ext cx="0" cy="23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38120" y="4657680"/>
              <a:ext cx="356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09720" y="4600080"/>
              <a:ext cx="13860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01800" y="2492280"/>
              <a:ext cx="1387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0360" y="4602600"/>
              <a:ext cx="1387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5991120" y="3703680"/>
          <a:ext cx="27576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1120" y="3703680"/>
                    <a:ext cx="27576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30320" y="3511440"/>
          <a:ext cx="328104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320" y="3511440"/>
                    <a:ext cx="32810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44720" y="5033880"/>
          <a:ext cx="55260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4720" y="5033880"/>
                    <a:ext cx="5526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92240" y="57895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nvers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f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×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-1 then the two lines with gradients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nd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re perpend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00360" y="5094360"/>
            <a:ext cx="5703840" cy="711000"/>
            <a:chOff x="1800360" y="5094360"/>
            <a:chExt cx="5703840" cy="711000"/>
          </a:xfrm>
        </p:grpSpPr>
        <p:sp>
          <p:nvSpPr>
            <p:cNvPr id="158" name=""/>
            <p:cNvSpPr/>
            <p:nvPr/>
          </p:nvSpPr>
          <p:spPr>
            <a:xfrm>
              <a:off x="6865920" y="5167440"/>
              <a:ext cx="638280" cy="550800"/>
            </a:xfrm>
            <a:prstGeom prst="ellipse">
              <a:avLst/>
            </a:prstGeom>
            <a:solidFill>
              <a:srgbClr val="ffcc99">
                <a:alpha val="44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00360" y="5094360"/>
              <a:ext cx="1915920" cy="711000"/>
            </a:xfrm>
            <a:prstGeom prst="rect">
              <a:avLst/>
            </a:prstGeom>
            <a:solidFill>
              <a:srgbClr val="ffcc99">
                <a:alpha val="47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rId7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699160" y="312264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The Equation of the Straight Line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 = m (x -  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3160" y="106524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Conje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The equation of any line can be found if its gradient and a point through which it passes are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898720"/>
            <a:ext cx="4858920" cy="2623680"/>
            <a:chOff x="0" y="2898720"/>
            <a:chExt cx="4858920" cy="2623680"/>
          </a:xfrm>
        </p:grpSpPr>
        <p:sp>
          <p:nvSpPr>
            <p:cNvPr id="165" name=""/>
            <p:cNvSpPr/>
            <p:nvPr/>
          </p:nvSpPr>
          <p:spPr>
            <a:xfrm>
              <a:off x="962640" y="3044520"/>
              <a:ext cx="0" cy="23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32440" y="5063400"/>
              <a:ext cx="348552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00" y="5006520"/>
              <a:ext cx="1677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2898720"/>
              <a:ext cx="16819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77000" y="5008320"/>
              <a:ext cx="16819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57360" y="4297320"/>
            <a:ext cx="2043000" cy="353880"/>
            <a:chOff x="1557360" y="4297320"/>
            <a:chExt cx="2043000" cy="353880"/>
          </a:xfrm>
        </p:grpSpPr>
        <p:sp>
          <p:nvSpPr>
            <p:cNvPr id="171" name=""/>
            <p:cNvSpPr/>
            <p:nvPr/>
          </p:nvSpPr>
          <p:spPr>
            <a:xfrm>
              <a:off x="1962000" y="4297320"/>
              <a:ext cx="1385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 -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557360" y="4360320"/>
              <a:ext cx="2043000" cy="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84080" y="2933640"/>
            <a:ext cx="3506760" cy="1593720"/>
            <a:chOff x="784080" y="2933640"/>
            <a:chExt cx="3506760" cy="1593720"/>
          </a:xfrm>
        </p:grpSpPr>
        <p:sp>
          <p:nvSpPr>
            <p:cNvPr id="174" name=""/>
            <p:cNvSpPr/>
            <p:nvPr/>
          </p:nvSpPr>
          <p:spPr>
            <a:xfrm flipV="1">
              <a:off x="1566720" y="3311280"/>
              <a:ext cx="2033640" cy="10270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4840" y="2933640"/>
              <a:ext cx="13860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(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58680" y="3479760"/>
              <a:ext cx="13860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080" y="3894120"/>
              <a:ext cx="13856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 (a, 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514680" y="3300480"/>
            <a:ext cx="828360" cy="1022400"/>
            <a:chOff x="3514680" y="3300480"/>
            <a:chExt cx="828360" cy="1022400"/>
          </a:xfrm>
        </p:grpSpPr>
        <p:sp>
          <p:nvSpPr>
            <p:cNvPr id="179" name=""/>
            <p:cNvSpPr/>
            <p:nvPr/>
          </p:nvSpPr>
          <p:spPr>
            <a:xfrm>
              <a:off x="3608280" y="3300480"/>
              <a:ext cx="15840" cy="102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4680" y="3597120"/>
              <a:ext cx="8283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 -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319560" y="356076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82960" y="424512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638680" y="3124080"/>
            <a:ext cx="1438200" cy="459720"/>
            <a:chOff x="5638680" y="3124080"/>
            <a:chExt cx="1438200" cy="459720"/>
          </a:xfrm>
        </p:grpSpPr>
        <p:sp>
          <p:nvSpPr>
            <p:cNvPr id="184" name=""/>
            <p:cNvSpPr/>
            <p:nvPr/>
          </p:nvSpPr>
          <p:spPr>
            <a:xfrm>
              <a:off x="6294600" y="3381480"/>
              <a:ext cx="78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3124080"/>
              <a:ext cx="72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094440" y="294336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75360" y="328932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 –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38960" y="313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76640" y="4917960"/>
            <a:ext cx="3719520" cy="1630440"/>
            <a:chOff x="4976640" y="4917960"/>
            <a:chExt cx="3719520" cy="1630440"/>
          </a:xfrm>
        </p:grpSpPr>
        <p:grpSp>
          <p:nvGrpSpPr>
            <p:cNvPr id="190" name=""/>
            <p:cNvGrpSpPr/>
            <p:nvPr/>
          </p:nvGrpSpPr>
          <p:grpSpPr>
            <a:xfrm>
              <a:off x="5207040" y="5021280"/>
              <a:ext cx="1633320" cy="636120"/>
              <a:chOff x="5207040" y="5021280"/>
              <a:chExt cx="1633320" cy="636120"/>
            </a:xfrm>
          </p:grpSpPr>
          <p:sp>
            <p:nvSpPr>
              <p:cNvPr id="191" name=""/>
              <p:cNvSpPr/>
              <p:nvPr/>
            </p:nvSpPr>
            <p:spPr>
              <a:xfrm flipH="1" flipV="1">
                <a:off x="6684840" y="5405040"/>
                <a:ext cx="1555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07040" y="5021280"/>
                <a:ext cx="150156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radient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497640" y="5842080"/>
              <a:ext cx="1834920" cy="652320"/>
              <a:chOff x="6497640" y="5842080"/>
              <a:chExt cx="1834920" cy="65232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7553160" y="5900760"/>
                <a:ext cx="13032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97640" y="5842080"/>
                <a:ext cx="3366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15160" y="6151680"/>
                <a:ext cx="15174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oint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, 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976640" y="4917960"/>
              <a:ext cx="3719520" cy="1630440"/>
              <a:chOff x="4976640" y="4917960"/>
              <a:chExt cx="3719520" cy="1630440"/>
            </a:xfrm>
          </p:grpSpPr>
          <p:sp>
            <p:nvSpPr>
              <p:cNvPr id="198" name=""/>
              <p:cNvSpPr/>
              <p:nvPr/>
            </p:nvSpPr>
            <p:spPr>
              <a:xfrm>
                <a:off x="4976640" y="4917960"/>
                <a:ext cx="3719520" cy="1630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2760" y="551664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– b = m (x – 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7680" y="1843200"/>
            <a:ext cx="8655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P(x,y) is any point on the line except A.  For every position of P the gradient of AP is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1"/>
          </p:cNvPr>
          <p:cNvSpPr/>
          <p:nvPr/>
        </p:nvSpPr>
        <p:spPr>
          <a:xfrm>
            <a:off x="469800" y="59054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0.30191 -0.09306 E">
                                      <p:cBhvr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463 L 0.43837 -0.14189 E">
                                      <p:cBhvr>
                                        <p:cTn id="22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301 L -0.11007 0.16578 E">
                                      <p:cBhvr>
                                        <p:cTn id="23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5E-006 0.14444 E">
                                      <p:cBhvr>
                                        <p:cTn id="23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0.00255 L 0.0401 0.11296 E">
                                      <p:cBhvr>
                                        <p:cTn id="24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0208 L 0.06684 0.1378 E">
                                      <p:cBhvr>
                                        <p:cTn id="24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erpendicular Bisecto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The </a:t>
            </a:r>
            <a:r>
              <a:rPr b="1" i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perpendicular bisector</a:t>
            </a:r>
            <a:r>
              <a:rPr b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 of a line HT is another line whi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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sses through the mid-point of H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i-secting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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at right angles to H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erpendi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22400" y="2629080"/>
            <a:ext cx="3816360" cy="3674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30560" y="5235480"/>
            <a:ext cx="20322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2720" y="3713040"/>
            <a:ext cx="0" cy="245448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9360" y="51642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2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autoRev="1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7" dur="3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ltitudes of Triangl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An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ltitude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 of a triangle is a line from a vertex perpendicular to the opposite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triangle has 3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ltitu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meet a point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rthocent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1720" y="2616120"/>
            <a:ext cx="2401920" cy="2185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98680" y="2455920"/>
            <a:ext cx="27432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194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j0078748" descr=""/>
          <p:cNvPicPr/>
          <p:nvPr/>
        </p:nvPicPr>
        <p:blipFill>
          <a:blip r:embed="rId2"/>
          <a:stretch/>
        </p:blipFill>
        <p:spPr>
          <a:xfrm>
            <a:off x="6388200" y="5533920"/>
            <a:ext cx="761760" cy="1123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90440" y="2509920"/>
            <a:ext cx="126540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182240" y="2954160"/>
            <a:ext cx="1050840" cy="66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833560" y="2603520"/>
            <a:ext cx="296568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691240" y="2373480"/>
            <a:ext cx="3043080" cy="2439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5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5:08:41Z</dcterms:created>
  <dc:creator>Calum Stewart</dc:creator>
  <dc:description/>
  <dc:language>en-US</dc:language>
  <cp:lastModifiedBy>Jim O'Neill</cp:lastModifiedBy>
  <dcterms:modified xsi:type="dcterms:W3CDTF">2002-08-30T11:08:57Z</dcterms:modified>
  <cp:revision>32</cp:revision>
  <dc:subject/>
  <dc:title>Higher Mathematics</dc:title>
</cp:coreProperties>
</file>