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0787-2FE7-4A85-9301-E0571C1F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1908-510E-422B-BE4C-F3EDAF09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9F88-8DA0-475C-8F38-A3851EFF2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3D9E-D387-4CC3-A472-FA4EE0191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C7DB-E712-4802-A17D-F9DFC155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0691-4B77-4F6E-AE82-5396546B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1CA5-55B6-4EBD-9F0C-05FF949F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870B-3F35-45EE-B36A-60316F0B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2605-EAE5-40D5-85AF-7E4607A7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3F80-9F9F-4041-A488-936597F8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82BF-E524-4D1C-991D-07095556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2B93-FDED-4AE9-BFB1-64C2C8FB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98F6-3C28-44A8-86A1-E9DE0639F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Worked Example 1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6068880" cy="55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ind the value of the first five terms of the sequen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= 3n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find the first term,  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, you simply substitute 1, in place of 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1" lang="en-GB" sz="2400" spc="-1" strike="noStrike" baseline="-30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= 3 ×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+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1" lang="en-GB" sz="2400" spc="-1" strike="noStrike" baseline="-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= 3 ×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+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1" lang="en-GB" sz="2400" spc="-1" strike="noStrike" baseline="-30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= 3 ×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+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 10 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sequence is easily see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ow a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{ 4,  7,  10,  13,  16 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Worked Example 6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5040" y="2630520"/>
            <a:ext cx="6188040" cy="55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t us look a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+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=  0·7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+  10             (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= 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= 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=  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=   2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=   30.1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=   31.092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=   31.764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=   32.235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=   32.564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=   32.795……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Worked Example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197000" y="3635280"/>
          <a:ext cx="4965840" cy="51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7000" y="3635280"/>
                    <a:ext cx="4965840" cy="51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241200" y="2216160"/>
            <a:ext cx="6356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time, as  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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ppears to approach a Limit (L).  Note the shape of the graph is different from example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Worked Example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2040" y="2144880"/>
            <a:ext cx="5851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0·7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+  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= 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value of the li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125360" y="2987640"/>
          <a:ext cx="4681800" cy="482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2987640"/>
                    <a:ext cx="468180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312840" y="7977240"/>
            <a:ext cx="635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ically, there is a suggestion of a limit shown between 30 and 35.  We need to be more accu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Worked Example 7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666880"/>
            <a:ext cx="609588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+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=  0·7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+  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= 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  we approach the Limit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=  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+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=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refo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   =  0·7L  +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L  –  0·7L   =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·3L     = 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   =  10 ÷ 0·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3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394920"/>
            <a:ext cx="582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actica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4440" y="395280"/>
            <a:ext cx="58291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actica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394920"/>
            <a:ext cx="58291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actica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Worked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286000"/>
            <a:ext cx="6264000" cy="60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ind the next four values of this sequence and develop an explicit formula which allows you to calculate 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without first having to find 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and 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+1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  3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= 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 3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3 ×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(don`t actually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calculate this ye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 3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3 × (3 × 2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  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×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 3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3 × (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× 2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  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×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 3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3 × (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× 2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  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×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(Can you see the pattern ?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Worked 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7680" y="2706840"/>
            <a:ext cx="5959440" cy="46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means that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  ……………………=    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×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r an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  <a:ea typeface="Arial"/>
              </a:rPr>
              <a:t>explici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formula is given b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 2 ×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 gener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is a more useful way of defining the sequence than by use of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currence Rela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 is now easy to find any ter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e.g.  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2 ×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Worked Example 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040" y="2630520"/>
            <a:ext cx="6112080" cy="60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ind an explicit formula for  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and find  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, 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+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+ 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+ 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 5 +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(leave it like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th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+ 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 (5 + 3) +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  =5 + (2 ×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+ 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 5 + (2 × 3) + 3 = 5 + (3 ×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+ 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5 + (3 × 3) + 3  = 5 + (4 ×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(Can you now see the pattern?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Worked Exampl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040" y="2706840"/>
            <a:ext cx="6188040" cy="47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means that    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 5 + (9 ×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r in general, the (explicit) formula is given b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 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5 + ((n–1) ×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ich simplifies to g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3n 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an you see that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= 3 × 100 +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302 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Worked Example 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5040" y="2630520"/>
            <a:ext cx="618804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+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=  2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+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ind the first 5 terms and guess what happens as n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3880" y="4383000"/>
            <a:ext cx="617472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=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=  2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+  3  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 ×  5 +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=  2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+  3  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 × 13 +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=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=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=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Worked Exampl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907920" y="3635280"/>
          <a:ext cx="4305600" cy="443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7920" y="3635280"/>
                    <a:ext cx="4305600" cy="44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84120" y="2216160"/>
            <a:ext cx="578160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 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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can you se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t  u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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also 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Worked Example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8240" y="2173320"/>
            <a:ext cx="5700600" cy="45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+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=  0·6V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+ 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V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= 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=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=  0·6 × 100 + 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=  0·6 × 90 + 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=  0·6 × 84 + 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80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=  0·6 × 80·4 + 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78·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76·9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Worked Example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4120" y="2281320"/>
            <a:ext cx="647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time, as  n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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Vn appears to approach a Limit (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07920" y="3492360"/>
          <a:ext cx="5168880" cy="532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7920" y="3492360"/>
                    <a:ext cx="516888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09:14:51Z</dcterms:created>
  <dc:creator>Jim O'Neill</dc:creator>
  <dc:description/>
  <dc:language>en-US</dc:language>
  <cp:lastModifiedBy>East Lothian Council</cp:lastModifiedBy>
  <dcterms:modified xsi:type="dcterms:W3CDTF">2002-09-30T07:46:58Z</dcterms:modified>
  <cp:revision>8</cp:revision>
  <dc:subject>Recurrence Relations Examples</dc:subject>
  <dc:title>PowerPoint Presentation</dc:title>
</cp:coreProperties>
</file>