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6.bin" ContentType="application/vnd.openxmlformats-officedocument.oleObject"/>
  <Override PartName="/ppt/embeddings/oleObject11.bin" ContentType="application/vnd.openxmlformats-officedocument.oleObject"/>
  <Override PartName="/ppt/embeddings/oleObject35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3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37.bin" ContentType="application/vnd.openxmlformats-officedocument.oleObject"/>
  <Override PartName="/ppt/embeddings/oleObject2.bin" ContentType="application/vnd.openxmlformats-officedocument.oleObject"/>
  <Override PartName="/ppt/embeddings/oleObject43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32.bin" ContentType="application/vnd.openxmlformats-officedocument.oleObject"/>
  <Override PartName="/ppt/embeddings/oleObject44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8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CB9-0C77-4F80-8750-DDB8499C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EED-0FD7-4FCD-92F7-BB8D1C59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772-0C2C-4BC5-B2C4-2B3C46F0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8D3-0D7D-414F-B478-0068444B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A10-DD4C-4E43-93DC-946D9772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52E-46AF-4FC2-B28B-6429777D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735-6EE6-43E0-B75B-62039107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B87-8211-4028-85DD-49529A5C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02D-E4E6-46E8-A251-402D6D27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4350-E038-4275-B7E3-579DCDE5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B6B2-A603-4A44-B2D9-D1978792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E2C-8336-4EEC-B554-8EBEF5B8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3AEB-3925-4CBD-B1BA-3853BF2F8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3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3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3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4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5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5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5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5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5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6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7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7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7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17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1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17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17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17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17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17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17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18.wmf"/><Relationship Id="rId8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2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2.wmf"/><Relationship Id="rId4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hyperlink" Target="file:///Higher%20Maths%201.3.ppt#Slide 9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380880"/>
          <a:ext cx="6248520" cy="442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6248520" cy="44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362320" y="4343400"/>
          <a:ext cx="34128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343400"/>
                    <a:ext cx="3412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 flipV="1">
            <a:off x="2514600" y="403848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86200" y="4267080"/>
          <a:ext cx="928800" cy="4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267080"/>
                    <a:ext cx="9288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 flipV="1">
            <a:off x="4267080" y="1980720"/>
            <a:ext cx="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514600" y="1980720"/>
            <a:ext cx="1752480" cy="20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343400" y="1676520"/>
          <a:ext cx="409680" cy="44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1676520"/>
                    <a:ext cx="4096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209680" y="3657600"/>
          <a:ext cx="409680" cy="44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3657600"/>
                    <a:ext cx="4096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6019920" y="2743200"/>
          <a:ext cx="2249280" cy="107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2743200"/>
                    <a:ext cx="224928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343400" y="2133720"/>
          <a:ext cx="2133720" cy="388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43400" y="2133720"/>
                    <a:ext cx="21337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600200" y="3352680"/>
          <a:ext cx="1297080" cy="3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00200" y="3352680"/>
                    <a:ext cx="129708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4724280" y="5029200"/>
            <a:ext cx="3581640" cy="990720"/>
            <a:chOff x="4724280" y="5029200"/>
            <a:chExt cx="3581640" cy="990720"/>
          </a:xfrm>
        </p:grpSpPr>
        <p:sp>
          <p:nvSpPr>
            <p:cNvPr id="61" name=""/>
            <p:cNvSpPr/>
            <p:nvPr/>
          </p:nvSpPr>
          <p:spPr>
            <a:xfrm>
              <a:off x="4724280" y="5029200"/>
              <a:ext cx="3581640" cy="99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4724280" y="5257800"/>
            <a:ext cx="1106640" cy="534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24280" y="5257800"/>
                      <a:ext cx="110664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5867280" y="548640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5" name=""/>
          <p:cNvGraphicFramePr/>
          <p:nvPr/>
        </p:nvGraphicFramePr>
        <p:xfrm>
          <a:off x="5105520" y="2590920"/>
          <a:ext cx="1079280" cy="388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05520" y="2590920"/>
                    <a:ext cx="10792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952880" y="3124080"/>
          <a:ext cx="1079640" cy="389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52880" y="3124080"/>
                    <a:ext cx="10796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952880" y="3657600"/>
          <a:ext cx="1079640" cy="388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952880" y="3657600"/>
                    <a:ext cx="10796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410080" y="4114800"/>
          <a:ext cx="1079640" cy="388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10080" y="4114800"/>
                    <a:ext cx="10796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715000" y="4648320"/>
          <a:ext cx="1079640" cy="388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715000" y="4648320"/>
                    <a:ext cx="10796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867280" y="5029200"/>
          <a:ext cx="1079640" cy="3888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867280" y="5029200"/>
                    <a:ext cx="10796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934320" y="5160960"/>
          <a:ext cx="312480" cy="2491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934320" y="5160960"/>
                    <a:ext cx="312480" cy="2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590920" y="3886200"/>
          <a:ext cx="658800" cy="388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590920" y="388620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895480" y="4343400"/>
          <a:ext cx="658800" cy="388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895480" y="434340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429000" y="4572000"/>
          <a:ext cx="658800" cy="3888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429000" y="457200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191120" y="4648320"/>
          <a:ext cx="658800" cy="3888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191120" y="464832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952880" y="4419720"/>
          <a:ext cx="658800" cy="3888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952880" y="441972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638680" y="4419720"/>
          <a:ext cx="658800" cy="3888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5638680" y="441972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248520" y="4495680"/>
          <a:ext cx="658800" cy="38916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248520" y="4495680"/>
                    <a:ext cx="6588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934320" y="4648320"/>
          <a:ext cx="658800" cy="3888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934320" y="464832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315200" y="5029200"/>
          <a:ext cx="658800" cy="3888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7315200" y="502920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572000" y="2743200"/>
          <a:ext cx="853920" cy="38880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572000" y="2743200"/>
                    <a:ext cx="8539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648320" y="3276720"/>
          <a:ext cx="853920" cy="3888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648320" y="3276720"/>
                    <a:ext cx="8539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876920" y="3809880"/>
          <a:ext cx="853920" cy="38916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876920" y="3809880"/>
                    <a:ext cx="85392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105520" y="4343400"/>
          <a:ext cx="853920" cy="38880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5105520" y="4343400"/>
                    <a:ext cx="8539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334120" y="4876920"/>
          <a:ext cx="853920" cy="38880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5334120" y="4876920"/>
                    <a:ext cx="8539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080040" y="5554800"/>
          <a:ext cx="854280" cy="38880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6080040" y="5554800"/>
                    <a:ext cx="8542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926400" y="5638680"/>
          <a:ext cx="312480" cy="2494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6926400" y="5638680"/>
                    <a:ext cx="312480" cy="2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752480" y="3809880"/>
          <a:ext cx="443160" cy="38916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1752480" y="3809880"/>
                    <a:ext cx="4431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905120" y="4267080"/>
          <a:ext cx="442800" cy="38916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1905120" y="4267080"/>
                    <a:ext cx="4428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057400" y="4724280"/>
          <a:ext cx="442800" cy="38916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2057400" y="4724280"/>
                    <a:ext cx="4428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438280" y="5105520"/>
          <a:ext cx="443160" cy="38880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2438280" y="510552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971800" y="5410080"/>
          <a:ext cx="442800" cy="38916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2971800" y="5410080"/>
                    <a:ext cx="4428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581280" y="5638680"/>
          <a:ext cx="443160" cy="38916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3581280" y="5638680"/>
                    <a:ext cx="4431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267080" y="5791320"/>
          <a:ext cx="443160" cy="38880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4267080" y="579132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952880" y="5943600"/>
          <a:ext cx="443160" cy="38880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4952880" y="594360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6019920"/>
          <a:ext cx="443160" cy="38880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5638680" y="601992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324480" y="6172200"/>
          <a:ext cx="443160" cy="38880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6324480" y="617220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010280" y="6095880"/>
          <a:ext cx="443160" cy="38916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7010280" y="6095880"/>
                    <a:ext cx="4431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391520" y="5562720"/>
          <a:ext cx="442800" cy="38880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7391520" y="5562720"/>
                    <a:ext cx="442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09480" y="15228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209680" y="990720"/>
          <a:ext cx="358164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35816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" name=""/>
          <p:cNvGrpSpPr/>
          <p:nvPr/>
        </p:nvGrpSpPr>
        <p:grpSpPr>
          <a:xfrm>
            <a:off x="533520" y="304920"/>
            <a:ext cx="7696080" cy="657360"/>
            <a:chOff x="533520" y="304920"/>
            <a:chExt cx="7696080" cy="657360"/>
          </a:xfrm>
        </p:grpSpPr>
        <p:sp>
          <p:nvSpPr>
            <p:cNvPr id="139" name=""/>
            <p:cNvSpPr/>
            <p:nvPr/>
          </p:nvSpPr>
          <p:spPr>
            <a:xfrm>
              <a:off x="533520" y="38088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hat happens if we make        smaller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0" name=""/>
            <p:cNvGraphicFramePr/>
            <p:nvPr/>
          </p:nvGraphicFramePr>
          <p:xfrm>
            <a:off x="5029200" y="304920"/>
            <a:ext cx="43488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29200" y="304920"/>
                      <a:ext cx="4348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2" name=""/>
          <p:cNvGrpSpPr/>
          <p:nvPr/>
        </p:nvGrpSpPr>
        <p:grpSpPr>
          <a:xfrm>
            <a:off x="609480" y="1190520"/>
            <a:ext cx="8000640" cy="5667120"/>
            <a:chOff x="609480" y="1190520"/>
            <a:chExt cx="8000640" cy="5667120"/>
          </a:xfrm>
        </p:grpSpPr>
        <p:graphicFrame>
          <p:nvGraphicFramePr>
            <p:cNvPr id="143" name=""/>
            <p:cNvGraphicFramePr/>
            <p:nvPr/>
          </p:nvGraphicFramePr>
          <p:xfrm>
            <a:off x="609480" y="1190520"/>
            <a:ext cx="8000640" cy="5667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480" y="1190520"/>
                      <a:ext cx="8000640" cy="566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"/>
            <p:cNvGraphicFramePr/>
            <p:nvPr/>
          </p:nvGraphicFramePr>
          <p:xfrm>
            <a:off x="3048840" y="6264000"/>
            <a:ext cx="436680" cy="487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8840" y="6264000"/>
                      <a:ext cx="43668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 flipV="1">
              <a:off x="3243600" y="5873760"/>
              <a:ext cx="0" cy="195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8" name=""/>
            <p:cNvGraphicFramePr/>
            <p:nvPr/>
          </p:nvGraphicFramePr>
          <p:xfrm>
            <a:off x="5000040" y="6166440"/>
            <a:ext cx="1189080" cy="615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00040" y="6166440"/>
                      <a:ext cx="1189080" cy="61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 flipV="1">
              <a:off x="5487480" y="3239280"/>
              <a:ext cx="0" cy="2829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243600" y="3238920"/>
              <a:ext cx="2243880" cy="263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2" name=""/>
            <p:cNvGraphicFramePr/>
            <p:nvPr/>
          </p:nvGraphicFramePr>
          <p:xfrm>
            <a:off x="5585400" y="2849400"/>
            <a:ext cx="524520" cy="570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85400" y="2849400"/>
                      <a:ext cx="524520" cy="57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"/>
            <p:cNvGraphicFramePr/>
            <p:nvPr/>
          </p:nvGraphicFramePr>
          <p:xfrm>
            <a:off x="2853360" y="5385960"/>
            <a:ext cx="524520" cy="570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53360" y="5385960"/>
                      <a:ext cx="524520" cy="57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5585400" y="3434760"/>
            <a:ext cx="2732040" cy="497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585400" y="3434760"/>
                      <a:ext cx="2732040" cy="49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"/>
            <p:cNvGraphicFramePr/>
            <p:nvPr/>
          </p:nvGraphicFramePr>
          <p:xfrm>
            <a:off x="2072880" y="4995360"/>
            <a:ext cx="1660680" cy="4982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72880" y="4995360"/>
                      <a:ext cx="1660680" cy="49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"/>
          <p:cNvGrpSpPr/>
          <p:nvPr/>
        </p:nvGrpSpPr>
        <p:grpSpPr>
          <a:xfrm>
            <a:off x="3238560" y="4340160"/>
            <a:ext cx="2517840" cy="2119320"/>
            <a:chOff x="3238560" y="4340160"/>
            <a:chExt cx="2517840" cy="2119320"/>
          </a:xfrm>
        </p:grpSpPr>
        <p:grpSp>
          <p:nvGrpSpPr>
            <p:cNvPr id="161" name=""/>
            <p:cNvGrpSpPr/>
            <p:nvPr/>
          </p:nvGrpSpPr>
          <p:grpSpPr>
            <a:xfrm>
              <a:off x="3238560" y="4340160"/>
              <a:ext cx="1869840" cy="1679400"/>
              <a:chOff x="3238560" y="4340160"/>
              <a:chExt cx="1869840" cy="1679400"/>
            </a:xfrm>
          </p:grpSpPr>
          <p:sp>
            <p:nvSpPr>
              <p:cNvPr id="162" name=""/>
              <p:cNvSpPr/>
              <p:nvPr/>
            </p:nvSpPr>
            <p:spPr>
              <a:xfrm flipV="1">
                <a:off x="5105520" y="4343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3238560" y="4340160"/>
                <a:ext cx="1869840" cy="154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64" name=""/>
            <p:cNvGraphicFramePr/>
            <p:nvPr/>
          </p:nvGraphicFramePr>
          <p:xfrm>
            <a:off x="4876920" y="6019920"/>
            <a:ext cx="879480" cy="439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8769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6" name=""/>
          <p:cNvGrpSpPr/>
          <p:nvPr/>
        </p:nvGrpSpPr>
        <p:grpSpPr>
          <a:xfrm>
            <a:off x="3247920" y="3962160"/>
            <a:ext cx="2360880" cy="2497320"/>
            <a:chOff x="3247920" y="3962160"/>
            <a:chExt cx="2360880" cy="2497320"/>
          </a:xfrm>
        </p:grpSpPr>
        <p:grpSp>
          <p:nvGrpSpPr>
            <p:cNvPr id="167" name=""/>
            <p:cNvGrpSpPr/>
            <p:nvPr/>
          </p:nvGrpSpPr>
          <p:grpSpPr>
            <a:xfrm>
              <a:off x="3247920" y="3962160"/>
              <a:ext cx="2016360" cy="2057400"/>
              <a:chOff x="3247920" y="3962160"/>
              <a:chExt cx="2016360" cy="2057400"/>
            </a:xfrm>
          </p:grpSpPr>
          <p:sp>
            <p:nvSpPr>
              <p:cNvPr id="168" name=""/>
              <p:cNvSpPr/>
              <p:nvPr/>
            </p:nvSpPr>
            <p:spPr>
              <a:xfrm flipV="1">
                <a:off x="5257800" y="396216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3247920" y="3975120"/>
                <a:ext cx="2016360" cy="19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70" name=""/>
            <p:cNvGraphicFramePr/>
            <p:nvPr/>
          </p:nvGraphicFramePr>
          <p:xfrm>
            <a:off x="4729320" y="6019920"/>
            <a:ext cx="879480" cy="439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7293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2" name=""/>
          <p:cNvGrpSpPr/>
          <p:nvPr/>
        </p:nvGrpSpPr>
        <p:grpSpPr>
          <a:xfrm>
            <a:off x="3244680" y="4648320"/>
            <a:ext cx="2206800" cy="1811160"/>
            <a:chOff x="3244680" y="4648320"/>
            <a:chExt cx="2206800" cy="1811160"/>
          </a:xfrm>
        </p:grpSpPr>
        <p:grpSp>
          <p:nvGrpSpPr>
            <p:cNvPr id="173" name=""/>
            <p:cNvGrpSpPr/>
            <p:nvPr/>
          </p:nvGrpSpPr>
          <p:grpSpPr>
            <a:xfrm>
              <a:off x="3244680" y="4648320"/>
              <a:ext cx="1708200" cy="1371600"/>
              <a:chOff x="3244680" y="4648320"/>
              <a:chExt cx="1708200" cy="137160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4952880" y="464832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3244680" y="4654080"/>
                <a:ext cx="1708200" cy="122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76" name=""/>
            <p:cNvGraphicFramePr/>
            <p:nvPr/>
          </p:nvGraphicFramePr>
          <p:xfrm>
            <a:off x="4572000" y="6019920"/>
            <a:ext cx="879480" cy="4395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57200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8" name=""/>
          <p:cNvGrpSpPr/>
          <p:nvPr/>
        </p:nvGrpSpPr>
        <p:grpSpPr>
          <a:xfrm>
            <a:off x="3244680" y="4876560"/>
            <a:ext cx="2054520" cy="1582920"/>
            <a:chOff x="3244680" y="4876560"/>
            <a:chExt cx="2054520" cy="1582920"/>
          </a:xfrm>
        </p:grpSpPr>
        <p:grpSp>
          <p:nvGrpSpPr>
            <p:cNvPr id="179" name=""/>
            <p:cNvGrpSpPr/>
            <p:nvPr/>
          </p:nvGrpSpPr>
          <p:grpSpPr>
            <a:xfrm>
              <a:off x="3244680" y="4876560"/>
              <a:ext cx="1555920" cy="1143000"/>
              <a:chOff x="3244680" y="4876560"/>
              <a:chExt cx="1555920" cy="1143000"/>
            </a:xfrm>
          </p:grpSpPr>
          <p:sp>
            <p:nvSpPr>
              <p:cNvPr id="180" name=""/>
              <p:cNvSpPr/>
              <p:nvPr/>
            </p:nvSpPr>
            <p:spPr>
              <a:xfrm flipV="1">
                <a:off x="4800600" y="487656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3244680" y="4889520"/>
                <a:ext cx="155592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82" name=""/>
            <p:cNvGraphicFramePr/>
            <p:nvPr/>
          </p:nvGraphicFramePr>
          <p:xfrm>
            <a:off x="4419720" y="6019920"/>
            <a:ext cx="879480" cy="4395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4197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4" name=""/>
          <p:cNvGrpSpPr/>
          <p:nvPr/>
        </p:nvGrpSpPr>
        <p:grpSpPr>
          <a:xfrm>
            <a:off x="3200400" y="5275080"/>
            <a:ext cx="1832040" cy="1202040"/>
            <a:chOff x="3200400" y="5275080"/>
            <a:chExt cx="1832040" cy="1202040"/>
          </a:xfrm>
        </p:grpSpPr>
        <p:grpSp>
          <p:nvGrpSpPr>
            <p:cNvPr id="185" name=""/>
            <p:cNvGrpSpPr/>
            <p:nvPr/>
          </p:nvGrpSpPr>
          <p:grpSpPr>
            <a:xfrm>
              <a:off x="3200400" y="5275080"/>
              <a:ext cx="1257120" cy="762120"/>
              <a:chOff x="3200400" y="5275080"/>
              <a:chExt cx="1257120" cy="762120"/>
            </a:xfrm>
          </p:grpSpPr>
          <p:sp>
            <p:nvSpPr>
              <p:cNvPr id="186" name=""/>
              <p:cNvSpPr/>
              <p:nvPr/>
            </p:nvSpPr>
            <p:spPr>
              <a:xfrm flipV="1">
                <a:off x="4457520" y="52750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3200400" y="5288040"/>
                <a:ext cx="125712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88" name=""/>
            <p:cNvGraphicFramePr/>
            <p:nvPr/>
          </p:nvGraphicFramePr>
          <p:xfrm>
            <a:off x="4152960" y="6037560"/>
            <a:ext cx="879480" cy="4395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152960" y="603756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0" name=""/>
          <p:cNvGrpSpPr/>
          <p:nvPr/>
        </p:nvGrpSpPr>
        <p:grpSpPr>
          <a:xfrm>
            <a:off x="3238560" y="5410080"/>
            <a:ext cx="1608120" cy="1049400"/>
            <a:chOff x="3238560" y="5410080"/>
            <a:chExt cx="1608120" cy="1049400"/>
          </a:xfrm>
        </p:grpSpPr>
        <p:grpSp>
          <p:nvGrpSpPr>
            <p:cNvPr id="191" name=""/>
            <p:cNvGrpSpPr/>
            <p:nvPr/>
          </p:nvGrpSpPr>
          <p:grpSpPr>
            <a:xfrm>
              <a:off x="3238560" y="5410080"/>
              <a:ext cx="1104840" cy="609840"/>
              <a:chOff x="3238560" y="5410080"/>
              <a:chExt cx="1104840" cy="609840"/>
            </a:xfrm>
          </p:grpSpPr>
          <p:sp>
            <p:nvSpPr>
              <p:cNvPr id="192" name=""/>
              <p:cNvSpPr/>
              <p:nvPr/>
            </p:nvSpPr>
            <p:spPr>
              <a:xfrm flipV="1">
                <a:off x="4343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3238560" y="5423040"/>
                <a:ext cx="11048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94" name=""/>
            <p:cNvGraphicFramePr/>
            <p:nvPr/>
          </p:nvGraphicFramePr>
          <p:xfrm>
            <a:off x="3967200" y="6019920"/>
            <a:ext cx="879480" cy="4395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96720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6" name=""/>
          <p:cNvGrpSpPr/>
          <p:nvPr/>
        </p:nvGrpSpPr>
        <p:grpSpPr>
          <a:xfrm>
            <a:off x="3238560" y="5562720"/>
            <a:ext cx="1450800" cy="896760"/>
            <a:chOff x="3238560" y="5562720"/>
            <a:chExt cx="1450800" cy="896760"/>
          </a:xfrm>
        </p:grpSpPr>
        <p:grpSp>
          <p:nvGrpSpPr>
            <p:cNvPr id="197" name=""/>
            <p:cNvGrpSpPr/>
            <p:nvPr/>
          </p:nvGrpSpPr>
          <p:grpSpPr>
            <a:xfrm>
              <a:off x="3238560" y="5562720"/>
              <a:ext cx="952560" cy="457200"/>
              <a:chOff x="3238560" y="5562720"/>
              <a:chExt cx="952560" cy="45720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4191120" y="5562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3238560" y="5568480"/>
                <a:ext cx="952560" cy="31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0" name=""/>
            <p:cNvGraphicFramePr/>
            <p:nvPr/>
          </p:nvGraphicFramePr>
          <p:xfrm>
            <a:off x="3809880" y="6019920"/>
            <a:ext cx="879480" cy="4395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380988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2" name=""/>
          <p:cNvGrpSpPr/>
          <p:nvPr/>
        </p:nvGrpSpPr>
        <p:grpSpPr>
          <a:xfrm>
            <a:off x="3238560" y="5638320"/>
            <a:ext cx="1298520" cy="821160"/>
            <a:chOff x="3238560" y="5638320"/>
            <a:chExt cx="1298520" cy="821160"/>
          </a:xfrm>
        </p:grpSpPr>
        <p:grpSp>
          <p:nvGrpSpPr>
            <p:cNvPr id="203" name=""/>
            <p:cNvGrpSpPr/>
            <p:nvPr/>
          </p:nvGrpSpPr>
          <p:grpSpPr>
            <a:xfrm>
              <a:off x="3238560" y="5638320"/>
              <a:ext cx="806400" cy="381240"/>
              <a:chOff x="3238560" y="5638320"/>
              <a:chExt cx="806400" cy="38124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4038480" y="56383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3238560" y="5644800"/>
                <a:ext cx="80640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6" name=""/>
            <p:cNvGraphicFramePr/>
            <p:nvPr/>
          </p:nvGraphicFramePr>
          <p:xfrm>
            <a:off x="3657600" y="6019920"/>
            <a:ext cx="879480" cy="4395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365760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8" name=""/>
          <p:cNvGrpSpPr/>
          <p:nvPr/>
        </p:nvGrpSpPr>
        <p:grpSpPr>
          <a:xfrm>
            <a:off x="3244680" y="5714640"/>
            <a:ext cx="1140120" cy="744840"/>
            <a:chOff x="3244680" y="5714640"/>
            <a:chExt cx="1140120" cy="744840"/>
          </a:xfrm>
        </p:grpSpPr>
        <p:grpSp>
          <p:nvGrpSpPr>
            <p:cNvPr id="209" name=""/>
            <p:cNvGrpSpPr/>
            <p:nvPr/>
          </p:nvGrpSpPr>
          <p:grpSpPr>
            <a:xfrm>
              <a:off x="3244680" y="5714640"/>
              <a:ext cx="648000" cy="304920"/>
              <a:chOff x="3244680" y="5714640"/>
              <a:chExt cx="648000" cy="304920"/>
            </a:xfrm>
          </p:grpSpPr>
          <p:sp>
            <p:nvSpPr>
              <p:cNvPr id="210" name=""/>
              <p:cNvSpPr/>
              <p:nvPr/>
            </p:nvSpPr>
            <p:spPr>
              <a:xfrm flipV="1">
                <a:off x="3886200" y="57146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3244680" y="5721120"/>
                <a:ext cx="64800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12" name=""/>
            <p:cNvGraphicFramePr/>
            <p:nvPr/>
          </p:nvGraphicFramePr>
          <p:xfrm>
            <a:off x="3505320" y="6019920"/>
            <a:ext cx="879480" cy="43956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35053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4" name=""/>
          <p:cNvGrpSpPr/>
          <p:nvPr/>
        </p:nvGrpSpPr>
        <p:grpSpPr>
          <a:xfrm>
            <a:off x="3244680" y="5790960"/>
            <a:ext cx="987480" cy="668520"/>
            <a:chOff x="3244680" y="5790960"/>
            <a:chExt cx="987480" cy="668520"/>
          </a:xfrm>
        </p:grpSpPr>
        <p:grpSp>
          <p:nvGrpSpPr>
            <p:cNvPr id="215" name=""/>
            <p:cNvGrpSpPr/>
            <p:nvPr/>
          </p:nvGrpSpPr>
          <p:grpSpPr>
            <a:xfrm>
              <a:off x="3244680" y="5790960"/>
              <a:ext cx="489240" cy="228600"/>
              <a:chOff x="3244680" y="5790960"/>
              <a:chExt cx="489240" cy="228600"/>
            </a:xfrm>
          </p:grpSpPr>
          <p:sp>
            <p:nvSpPr>
              <p:cNvPr id="216" name=""/>
              <p:cNvSpPr/>
              <p:nvPr/>
            </p:nvSpPr>
            <p:spPr>
              <a:xfrm flipV="1">
                <a:off x="3733920" y="5790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3244680" y="5797440"/>
                <a:ext cx="48924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18" name=""/>
            <p:cNvGraphicFramePr/>
            <p:nvPr/>
          </p:nvGraphicFramePr>
          <p:xfrm>
            <a:off x="3352680" y="6019920"/>
            <a:ext cx="879480" cy="43956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335268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0" name=""/>
          <p:cNvGrpSpPr/>
          <p:nvPr/>
        </p:nvGrpSpPr>
        <p:grpSpPr>
          <a:xfrm>
            <a:off x="3200400" y="5790960"/>
            <a:ext cx="879480" cy="668520"/>
            <a:chOff x="3200400" y="5790960"/>
            <a:chExt cx="879480" cy="668520"/>
          </a:xfrm>
        </p:grpSpPr>
        <p:grpSp>
          <p:nvGrpSpPr>
            <p:cNvPr id="221" name=""/>
            <p:cNvGrpSpPr/>
            <p:nvPr/>
          </p:nvGrpSpPr>
          <p:grpSpPr>
            <a:xfrm>
              <a:off x="3276720" y="5790960"/>
              <a:ext cx="304560" cy="228600"/>
              <a:chOff x="3276720" y="5790960"/>
              <a:chExt cx="304560" cy="228600"/>
            </a:xfrm>
          </p:grpSpPr>
          <p:sp>
            <p:nvSpPr>
              <p:cNvPr id="222" name=""/>
              <p:cNvSpPr/>
              <p:nvPr/>
            </p:nvSpPr>
            <p:spPr>
              <a:xfrm flipV="1">
                <a:off x="3581280" y="5790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3276720" y="5800320"/>
                <a:ext cx="304560" cy="6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24" name=""/>
            <p:cNvGraphicFramePr/>
            <p:nvPr/>
          </p:nvGraphicFramePr>
          <p:xfrm>
            <a:off x="3200400" y="6019920"/>
            <a:ext cx="879480" cy="43956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320040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6" name=""/>
          <p:cNvGrpSpPr/>
          <p:nvPr/>
        </p:nvGrpSpPr>
        <p:grpSpPr>
          <a:xfrm>
            <a:off x="3048120" y="5867280"/>
            <a:ext cx="879480" cy="592200"/>
            <a:chOff x="3048120" y="5867280"/>
            <a:chExt cx="879480" cy="592200"/>
          </a:xfrm>
        </p:grpSpPr>
        <p:grpSp>
          <p:nvGrpSpPr>
            <p:cNvPr id="227" name=""/>
            <p:cNvGrpSpPr/>
            <p:nvPr/>
          </p:nvGrpSpPr>
          <p:grpSpPr>
            <a:xfrm>
              <a:off x="3238560" y="5867280"/>
              <a:ext cx="190440" cy="152640"/>
              <a:chOff x="3238560" y="5867280"/>
              <a:chExt cx="190440" cy="152640"/>
            </a:xfrm>
          </p:grpSpPr>
          <p:sp>
            <p:nvSpPr>
              <p:cNvPr id="228" name=""/>
              <p:cNvSpPr/>
              <p:nvPr/>
            </p:nvSpPr>
            <p:spPr>
              <a:xfrm flipV="1">
                <a:off x="3429000" y="5867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3238560" y="5879880"/>
                <a:ext cx="19044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30" name=""/>
            <p:cNvGraphicFramePr/>
            <p:nvPr/>
          </p:nvGraphicFramePr>
          <p:xfrm>
            <a:off x="3048120" y="6019920"/>
            <a:ext cx="879480" cy="43956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30481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2" name=""/>
          <p:cNvGrpSpPr/>
          <p:nvPr/>
        </p:nvGrpSpPr>
        <p:grpSpPr>
          <a:xfrm>
            <a:off x="3238560" y="5105520"/>
            <a:ext cx="1908000" cy="1371600"/>
            <a:chOff x="3238560" y="5105520"/>
            <a:chExt cx="1908000" cy="1371600"/>
          </a:xfrm>
        </p:grpSpPr>
        <p:grpSp>
          <p:nvGrpSpPr>
            <p:cNvPr id="233" name=""/>
            <p:cNvGrpSpPr/>
            <p:nvPr/>
          </p:nvGrpSpPr>
          <p:grpSpPr>
            <a:xfrm>
              <a:off x="3238560" y="5105520"/>
              <a:ext cx="1415880" cy="914400"/>
              <a:chOff x="3238560" y="5105520"/>
              <a:chExt cx="1415880" cy="91440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4648320" y="51055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238560" y="5105520"/>
                <a:ext cx="141588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36" name=""/>
            <p:cNvGraphicFramePr/>
            <p:nvPr/>
          </p:nvGraphicFramePr>
          <p:xfrm>
            <a:off x="4267080" y="6037200"/>
            <a:ext cx="879480" cy="43992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4267080" y="6037200"/>
                      <a:ext cx="87948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8" name=""/>
          <p:cNvGraphicFramePr/>
          <p:nvPr/>
        </p:nvGraphicFramePr>
        <p:xfrm>
          <a:off x="2590920" y="5961240"/>
          <a:ext cx="1460520" cy="43956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590920" y="5961240"/>
                    <a:ext cx="146052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 flipV="1">
            <a:off x="1371600" y="5181120"/>
            <a:ext cx="48769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616800" y="4038480"/>
            <a:ext cx="2298600" cy="2113200"/>
            <a:chOff x="6616800" y="4038480"/>
            <a:chExt cx="2298600" cy="2113200"/>
          </a:xfrm>
        </p:grpSpPr>
        <p:sp>
          <p:nvSpPr>
            <p:cNvPr id="242" name=""/>
            <p:cNvSpPr/>
            <p:nvPr/>
          </p:nvSpPr>
          <p:spPr>
            <a:xfrm>
              <a:off x="6616800" y="4038480"/>
              <a:ext cx="2298600" cy="2113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n gradient of AB is the gradient of the tangent at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3" name=""/>
            <p:cNvGraphicFramePr/>
            <p:nvPr/>
          </p:nvGraphicFramePr>
          <p:xfrm>
            <a:off x="7454880" y="4038480"/>
            <a:ext cx="1460520" cy="43992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7454880" y="4038480"/>
                      <a:ext cx="146052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 flipV="1">
            <a:off x="2819520" y="3962160"/>
            <a:ext cx="3581280" cy="25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819520" y="3962160"/>
            <a:ext cx="358128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38080" y="1038240"/>
            <a:ext cx="8001000" cy="5667480"/>
            <a:chOff x="838080" y="1038240"/>
            <a:chExt cx="8001000" cy="5667480"/>
          </a:xfrm>
        </p:grpSpPr>
        <p:graphicFrame>
          <p:nvGraphicFramePr>
            <p:cNvPr id="248" name=""/>
            <p:cNvGraphicFramePr/>
            <p:nvPr/>
          </p:nvGraphicFramePr>
          <p:xfrm>
            <a:off x="4190760" y="4619880"/>
            <a:ext cx="523800" cy="57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0760" y="4619880"/>
                      <a:ext cx="52380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0" name=""/>
            <p:cNvGraphicFramePr/>
            <p:nvPr/>
          </p:nvGraphicFramePr>
          <p:xfrm>
            <a:off x="838080" y="1038240"/>
            <a:ext cx="8001000" cy="566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1038240"/>
                      <a:ext cx="8001000" cy="566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2" name=""/>
          <p:cNvSpPr/>
          <p:nvPr/>
        </p:nvSpPr>
        <p:spPr>
          <a:xfrm flipV="1">
            <a:off x="2819520" y="3962160"/>
            <a:ext cx="3581280" cy="25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0400" y="4228920"/>
            <a:ext cx="2819520" cy="19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390840" y="4381200"/>
            <a:ext cx="2438640" cy="1676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733920" y="4609800"/>
            <a:ext cx="17524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038480" y="4800600"/>
            <a:ext cx="11430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305240" y="4991040"/>
            <a:ext cx="60984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95680" y="5143320"/>
            <a:ext cx="22860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962520" y="4572000"/>
          <a:ext cx="129528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4572000"/>
                    <a:ext cx="1295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1" name=""/>
          <p:cNvGrpSpPr/>
          <p:nvPr/>
        </p:nvGrpSpPr>
        <p:grpSpPr>
          <a:xfrm>
            <a:off x="1219320" y="457200"/>
            <a:ext cx="4800600" cy="825480"/>
            <a:chOff x="1219320" y="457200"/>
            <a:chExt cx="4800600" cy="825480"/>
          </a:xfrm>
        </p:grpSpPr>
        <p:sp>
          <p:nvSpPr>
            <p:cNvPr id="262" name=""/>
            <p:cNvSpPr/>
            <p:nvPr/>
          </p:nvSpPr>
          <p:spPr>
            <a:xfrm>
              <a:off x="1219320" y="457200"/>
              <a:ext cx="480060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rinking the tangent line is the same as letting        get very sm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2576520" y="880920"/>
            <a:ext cx="263520" cy="37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76520" y="880920"/>
                      <a:ext cx="263520" cy="37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5" name=""/>
          <p:cNvSpPr/>
          <p:nvPr/>
        </p:nvSpPr>
        <p:spPr>
          <a:xfrm>
            <a:off x="6705720" y="2362320"/>
            <a:ext cx="2133360" cy="33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dient doesn't change as the line gets smaller and so the gradient at B must be the same as the gradient of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304920"/>
            <a:ext cx="2971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we say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143000" y="1600200"/>
          <a:ext cx="358128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358128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914400" y="2819520"/>
            <a:ext cx="83808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270080" y="3479760"/>
          <a:ext cx="4091040" cy="104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0080" y="3479760"/>
                    <a:ext cx="40910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1143000" y="990720"/>
            <a:ext cx="1600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6680" y="4952880"/>
            <a:ext cx="7086600" cy="927360"/>
            <a:chOff x="1066680" y="4952880"/>
            <a:chExt cx="7086600" cy="927360"/>
          </a:xfrm>
        </p:grpSpPr>
        <p:sp>
          <p:nvSpPr>
            <p:cNvPr id="274" name=""/>
            <p:cNvSpPr/>
            <p:nvPr/>
          </p:nvSpPr>
          <p:spPr>
            <a:xfrm>
              <a:off x="1066680" y="4952880"/>
              <a:ext cx="7086600" cy="825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is is the basic, first principle definition of the derived function. Usually writt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5" name=""/>
            <p:cNvGraphicFramePr/>
            <p:nvPr/>
          </p:nvGraphicFramePr>
          <p:xfrm>
            <a:off x="4343400" y="5257800"/>
            <a:ext cx="1066680" cy="622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43400" y="5257800"/>
                      <a:ext cx="106668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7" name=""/>
          <p:cNvSpPr/>
          <p:nvPr/>
        </p:nvSpPr>
        <p:spPr>
          <a:xfrm>
            <a:off x="7772400" y="6095880"/>
            <a:ext cx="12193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09:56:06Z</dcterms:created>
  <dc:creator>East Lothian Council</dc:creator>
  <dc:description/>
  <dc:language>en-US</dc:language>
  <cp:lastModifiedBy>East Lothian Council</cp:lastModifiedBy>
  <dcterms:modified xsi:type="dcterms:W3CDTF">2003-01-24T10:51:44Z</dcterms:modified>
  <cp:revision>14</cp:revision>
  <dc:subject/>
  <dc:title>No Slide Title</dc:title>
</cp:coreProperties>
</file>