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17B-D50B-4431-9D4D-F1E22674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CEE-BE76-4CBA-ACC8-9CD5133F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86A-C130-4A13-9BBF-655A3568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95A-AB8D-4C26-966A-33A829EB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A80-47F4-453D-8212-71C3FB1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481-B234-4AC4-BD12-4EAE413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D7F-BFB7-4FC5-98CA-A51CD379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29-6AAF-4BFD-9593-0F5F461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646-FD83-42B0-801C-3D83E3C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71E-74A3-484D-9492-8C061F97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AEC-F6D7-4395-94E3-765D8266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B53-1E74-499F-8B1F-A618AF2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EE71-CDFD-4AEB-8CE1-285124891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"/>
            <a:ext cx="7010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x, given that 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=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,     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00200" y="1523880"/>
          <a:ext cx="53341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3341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58880" y="2347920"/>
          <a:ext cx="9111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2347920"/>
                    <a:ext cx="911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600200" y="2286000"/>
          <a:ext cx="46227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286000"/>
                    <a:ext cx="4622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38080" y="3200400"/>
          <a:ext cx="91152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200400"/>
                    <a:ext cx="9115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895480" y="3124080"/>
          <a:ext cx="235116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124080"/>
                    <a:ext cx="23511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14400" y="3962520"/>
          <a:ext cx="911160" cy="72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3962520"/>
                    <a:ext cx="911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282840" y="3962520"/>
          <a:ext cx="1728720" cy="70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2840" y="3962520"/>
                    <a:ext cx="1728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066680" y="4724280"/>
          <a:ext cx="911520" cy="72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4724280"/>
                    <a:ext cx="911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463920" y="4844880"/>
          <a:ext cx="1506600" cy="61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844880"/>
                    <a:ext cx="1506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562720" y="2895480"/>
            <a:ext cx="3581280" cy="2286000"/>
            <a:chOff x="5562720" y="2895480"/>
            <a:chExt cx="3581280" cy="2286000"/>
          </a:xfrm>
        </p:grpSpPr>
        <p:sp>
          <p:nvSpPr>
            <p:cNvPr id="61" name=""/>
            <p:cNvSpPr/>
            <p:nvPr/>
          </p:nvSpPr>
          <p:spPr>
            <a:xfrm>
              <a:off x="5562720" y="2895480"/>
              <a:ext cx="3581280" cy="2286000"/>
            </a:xfrm>
            <a:prstGeom prst="cloudCallout">
              <a:avLst>
                <a:gd name="adj1" fmla="val -58287"/>
                <a:gd name="adj2" fmla="val -2583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5705640" y="3581280"/>
            <a:ext cx="3438360" cy="35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05640" y="3581280"/>
                      <a:ext cx="343836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110280" y="4592520"/>
            <a:ext cx="2629080" cy="314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110280" y="4592520"/>
                      <a:ext cx="2629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685800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3962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52680" y="1371600"/>
          <a:ext cx="19814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71600"/>
                    <a:ext cx="19814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85800" y="2209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logs of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66880" y="2209680"/>
          <a:ext cx="416412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09680"/>
                    <a:ext cx="41641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681280" y="3191040"/>
          <a:ext cx="428796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1280" y="3191040"/>
                    <a:ext cx="42879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895480" y="4114800"/>
          <a:ext cx="2921040" cy="20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4114800"/>
                    <a:ext cx="292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867280" y="4495680"/>
          <a:ext cx="285120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495680"/>
                    <a:ext cx="28512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28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685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14600" y="380880"/>
          <a:ext cx="34178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34178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09480" y="1371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logs of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0920" y="1143000"/>
          <a:ext cx="571644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143000"/>
                    <a:ext cx="57164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133720" y="2057400"/>
          <a:ext cx="671040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2057400"/>
                    <a:ext cx="67104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133720" y="3011400"/>
          <a:ext cx="5094000" cy="21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3011400"/>
                    <a:ext cx="50940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14600" y="4952880"/>
          <a:ext cx="4473720" cy="98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952880"/>
                    <a:ext cx="447372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819520" y="5521320"/>
          <a:ext cx="4182840" cy="13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5521320"/>
                    <a:ext cx="418284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219320"/>
          <a:ext cx="813456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1345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52400" y="1981080"/>
          <a:ext cx="911160" cy="7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1981080"/>
                    <a:ext cx="911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31960" y="2666880"/>
          <a:ext cx="91116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1960" y="2666880"/>
                    <a:ext cx="911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838080" y="3352680"/>
          <a:ext cx="911520" cy="72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352680"/>
                    <a:ext cx="911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838080" y="4191120"/>
          <a:ext cx="911520" cy="72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191120"/>
                    <a:ext cx="9115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705720" y="3962520"/>
            <a:ext cx="2057400" cy="1523880"/>
          </a:xfrm>
          <a:prstGeom prst="cloudCallout">
            <a:avLst>
              <a:gd name="adj1" fmla="val -60958"/>
              <a:gd name="adj2" fmla="val -8781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, for x &gt; 0,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x + 1) +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x – 10) =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73120" y="1981080"/>
          <a:ext cx="671220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3120" y="1981080"/>
                    <a:ext cx="67122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49520" y="2743200"/>
          <a:ext cx="4800600" cy="70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9520" y="2743200"/>
                    <a:ext cx="4800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962000" y="3276720"/>
          <a:ext cx="4357800" cy="704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62000" y="3276720"/>
                    <a:ext cx="4357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981080" y="4114800"/>
          <a:ext cx="3957840" cy="704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114800"/>
                    <a:ext cx="39578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90800" y="4952880"/>
          <a:ext cx="4091040" cy="70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90800" y="4952880"/>
                    <a:ext cx="4091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120" y="5029200"/>
          <a:ext cx="911160" cy="722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120" y="5029200"/>
                    <a:ext cx="911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838080" y="5638680"/>
          <a:ext cx="911520" cy="722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5638680"/>
                    <a:ext cx="911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057400" y="5334120"/>
          <a:ext cx="3957480" cy="13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57400" y="5334120"/>
                    <a:ext cx="3957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3:17:38Z</dcterms:created>
  <dc:creator>East Lothian Council</dc:creator>
  <dc:description/>
  <dc:language>en-US</dc:language>
  <cp:lastModifiedBy>East Lothian Council</cp:lastModifiedBy>
  <dcterms:modified xsi:type="dcterms:W3CDTF">2003-02-06T14:33:46Z</dcterms:modified>
  <cp:revision>4</cp:revision>
  <dc:subject/>
  <dc:title>No Slide Title</dc:title>
</cp:coreProperties>
</file>