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94D-7F69-4965-9F38-82EF7C7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8D0-C58F-4518-8DA5-CA7AA6B2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A44-8CD4-495D-A771-D254C970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99B-34CE-4E04-BC02-0AC6D528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093-E992-4302-B3C3-4B1351CE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AF3-18AA-4D5E-B81B-C1B7021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F07-64CD-47A7-9D42-8BCC3AB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1BD-3CD2-448D-A504-694D627C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EBE-72B6-4030-B50F-34BCC96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404-EF22-4DAC-B513-70815E5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22D-F5F8-4EC1-B4E5-64358EB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73-9562-4B9B-AB2F-F6FB42D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D49-0F2D-4B13-A3C6-7A52DF4F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.4%20examples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.4%20examples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urrenc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Generating recurrence relations on a Graphic Calculator.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800" y="2554200"/>
            <a:ext cx="8320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graphic calculator provides an ideal platform to rapidly calculate and display terms of a recurrenc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how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y the value of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[ENTER] to get initi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 relation using ANS facility     [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[(-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[ENTER] to get nex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 [ENTER] to get nex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Generating recurrence relations on a Graphic Calcul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5000" y="2478240"/>
            <a:ext cx="7736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same recurrence relation as used in example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0·6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8360" y="3500280"/>
            <a:ext cx="1727280" cy="3024360"/>
            <a:chOff x="468360" y="3500280"/>
            <a:chExt cx="1727280" cy="30243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39640" y="3500280"/>
              <a:ext cx="14432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4735440"/>
              <a:ext cx="17272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 start value i.e.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ENTER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1440" y="3505320"/>
            <a:ext cx="1441440" cy="96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09680" y="4735440"/>
            <a:ext cx="185904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relation using ANS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(-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75080" y="3505320"/>
            <a:ext cx="1351080" cy="112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0360" y="4735440"/>
            <a:ext cx="2036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[ENTER] to get next valu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367320" y="3505320"/>
            <a:ext cx="1333800" cy="976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00720" y="4724280"/>
            <a:ext cx="180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[ENTER] to get next valu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916280"/>
            <a:ext cx="83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 in an old shabby classroom and my Headteacher agrees to let me paint a w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ys that I can only paint half of the unpainted wall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gre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will it take to completely paint the wall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2741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55897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628640"/>
            <a:ext cx="3600720" cy="388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3429000"/>
            <a:ext cx="3673440" cy="2087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1628640"/>
            <a:ext cx="1873440" cy="180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628640"/>
            <a:ext cx="18000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2637000"/>
            <a:ext cx="93636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637000"/>
            <a:ext cx="863640" cy="36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2997360"/>
            <a:ext cx="432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2997360"/>
            <a:ext cx="431640" cy="215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213000"/>
            <a:ext cx="216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3213000"/>
            <a:ext cx="222120" cy="1098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166760"/>
            <a:ext cx="8300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on day 1, I paint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day 2, I paint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day 3, I paint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my total is given b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ever total 1 so I will never actually finish painting the room, although it might appear that I do.  There will always be a little space if I do it properly.  That is the idea of a limit – the end is never reached, it only appears to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onsider that you would probably just dab the little space left at some point, that is the same as rounding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08360" y="2421000"/>
          <a:ext cx="391176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21000"/>
                    <a:ext cx="391176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5120" y="2081160"/>
            <a:ext cx="801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ly a limit is when each term of a sequence approaches the sam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Will every recurrence relation have a limi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How can we t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nsider some relations and look at the resulting graphs to establish a patter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istence of a limit should be obvious graph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Different values of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773360"/>
            <a:ext cx="8569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look at different recurrence relations and compare them graphically to consider whether a limit may exist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only need consider relations of the type: 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n+1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 =  au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+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s we need to consid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−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a &gt;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084320"/>
          <a:ext cx="644364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4320"/>
                    <a:ext cx="64436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5661000"/>
            <a:ext cx="12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6920" y="597708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86480" y="1197000"/>
          <a:ext cx="2657520" cy="4608000"/>
        </p:xfrm>
        <a:graphic>
          <a:graphicData uri="http://schemas.openxmlformats.org/drawingml/2006/table">
            <a:tbl>
              <a:tblPr/>
              <a:tblGrid>
                <a:gridCol w="966960"/>
                <a:gridCol w="1690560"/>
              </a:tblGrid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5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9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6678000" y="765000"/>
            <a:ext cx="209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a 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907920"/>
          <a:ext cx="687708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687708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948360" y="907920"/>
          <a:ext cx="1941480" cy="4544640"/>
        </p:xfrm>
        <a:graphic>
          <a:graphicData uri="http://schemas.openxmlformats.org/drawingml/2006/table">
            <a:tbl>
              <a:tblPr/>
              <a:tblGrid>
                <a:gridCol w="706320"/>
                <a:gridCol w="1235160"/>
              </a:tblGrid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50920" y="5516640"/>
            <a:ext cx="8497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n gets larger u(n) moves to 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 if the constant term = 0, i.e. don’t add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= 1 the limit problem is amb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75720" y="404640"/>
            <a:ext cx="18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0 &lt; a &lt;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001880"/>
          <a:ext cx="6156360" cy="417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1880"/>
                    <a:ext cx="615636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227640" y="1052640"/>
          <a:ext cx="2513160" cy="4400280"/>
        </p:xfrm>
        <a:graphic>
          <a:graphicData uri="http://schemas.openxmlformats.org/drawingml/2006/table">
            <a:tbl>
              <a:tblPr/>
              <a:tblGrid>
                <a:gridCol w="913320"/>
                <a:gridCol w="15998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8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1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8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2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5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7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17520" y="590544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5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is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3720" y="549360"/>
            <a:ext cx="207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.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The General Term of a Seque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628640"/>
            <a:ext cx="80946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sequ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s just a pattern of numbers defined by some given ru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rule should allow you to determine any term of the sequence quite clear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two ways of defining patterns or sequences of numbe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is to give a general formula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explicitl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defines the nth term, u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of the sequence in terms of n itsel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cond is to give a formula which determines the next value in the sequence from the previous one.  This is an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i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formula i.e. each value is implied from the one bef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95720" y="84423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Continue </a:t>
            </a:r>
            <a:r>
              <a:rPr b="0" lang="en-GB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a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97000"/>
          <a:ext cx="61545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1545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56360" y="1268280"/>
          <a:ext cx="2517840" cy="4400640"/>
        </p:xfrm>
        <a:graphic>
          <a:graphicData uri="http://schemas.openxmlformats.org/drawingml/2006/table">
            <a:tbl>
              <a:tblPr/>
              <a:tblGrid>
                <a:gridCol w="916200"/>
                <a:gridCol w="16016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17520" y="590544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is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1000" y="763560"/>
            <a:ext cx="18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−</a:t>
            </a: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1 &lt; a &l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197000"/>
          <a:ext cx="601020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1020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50920" y="6093000"/>
            <a:ext cx="857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known as an oscillating graph. 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It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84720" y="1268280"/>
          <a:ext cx="2373480" cy="4400640"/>
        </p:xfrm>
        <a:graphic>
          <a:graphicData uri="http://schemas.openxmlformats.org/drawingml/2006/table">
            <a:tbl>
              <a:tblPr/>
              <a:tblGrid>
                <a:gridCol w="863640"/>
                <a:gridCol w="15098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9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2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5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3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4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4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544500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7.142857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54280" y="763560"/>
            <a:ext cx="21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-0.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when a  = 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−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836640"/>
          <a:ext cx="601200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601200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4941720"/>
            <a:ext cx="88930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an oscillating graph.  It will not settle on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 if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10, though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the limit problem is amb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372360" y="907920"/>
          <a:ext cx="2592360" cy="4033800"/>
        </p:xfrm>
        <a:graphic>
          <a:graphicData uri="http://schemas.openxmlformats.org/drawingml/2006/table">
            <a:tbl>
              <a:tblPr/>
              <a:tblGrid>
                <a:gridCol w="942840"/>
                <a:gridCol w="16495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685560" y="476280"/>
            <a:ext cx="214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−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And if a &lt; -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052640"/>
          <a:ext cx="637236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6372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5445000"/>
            <a:ext cx="62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is graph heads off towards both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successive values change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516720" y="1125360"/>
          <a:ext cx="2441520" cy="4897080"/>
        </p:xfrm>
        <a:graphic>
          <a:graphicData uri="http://schemas.openxmlformats.org/drawingml/2006/table">
            <a:tbl>
              <a:tblPr/>
              <a:tblGrid>
                <a:gridCol w="877680"/>
                <a:gridCol w="15638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7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.2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7.94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1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.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38.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6757560" y="692280"/>
            <a:ext cx="216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133720"/>
            <a:ext cx="8001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every linear recurrence relation:-  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 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+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L (Limit), as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,  if  –1 &lt;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will NOT tend to a limit (other than 0) generally i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gt; 1  (or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.e A limit exists i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a positive or negative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`s how to find the limit very quickly and very easily !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068640"/>
            <a:ext cx="839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reasons you could give an exam marker for why you believe that the recurrence relation is producing terms that appear to be approaching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981080"/>
            <a:ext cx="83059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ough the terms are getting smaller, the actual amount they are decreasing by each time is getting smaller also and is tending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raph indicates that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is tending to a limit (L) as 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ultiplication fact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0·7   (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+  10)   and when -1&l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1, automatically gives a recurrence relation with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400" y="209700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order to maximise the marks you get in an exam, you must give one of the above reasons for why a limit exists before actually proceeding to find the limit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inding the Limit (L)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021040"/>
            <a:ext cx="831996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e you have established that a limit exists it is very easy to find the limit (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see that if the sequence tends to a limit, then eventually after a whi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1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2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3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………   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L    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i.e.   all the terms (after a while) will effectively be the same as each other (to a given number of decimal places) and will have the value L.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inding the Limit (L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440" y="2174760"/>
            <a:ext cx="80913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find L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imply replace both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and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in the recurrence relation by the letter L and solve the equation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Definitions and Terminolog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440" y="1944720"/>
            <a:ext cx="793908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the most confusing aspect of this topic is the terminology and notation used, in order to help you with this here are some pointe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 number i.e. first, second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curren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nex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previous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starting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firs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 so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s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starting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95720" y="84423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Continue </a:t>
            </a:r>
            <a:r>
              <a:rPr b="0" lang="en-GB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368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involving recurrence relations often require the use of common sense and a careful reading of the ques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ypical scenario requires the construction of an appropriate relationship where the important quantity is the </a:t>
            </a:r>
            <a:r>
              <a:rPr b="1" lang="en-GB" sz="2400" spc="-1" strike="noStrike" u="sng">
                <a:solidFill>
                  <a:srgbClr val="660066"/>
                </a:solidFill>
                <a:uFillTx/>
                <a:latin typeface="Arial"/>
              </a:rPr>
              <a:t>resid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ther than the quantity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ould typically be offered as a percentage.  It means that the residue is the value remaining after subtraction from 10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look at 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84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cal pond is badly polluted.  It is thought to contain 15 tonnes of noxious chemicals which need to be removed.  The cleaning process reduces the chemicals by 28% each week.  The pond still suffers an additional 1 tonne of chemicals each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a recurrence relation for the amount of chemical present at the end of each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cal authority would like the content to fall below 3 tonnes.  What advice should you give them about the time needed for that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844640"/>
            <a:ext cx="83725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28% of the chemicals are removed then (100 – 28)% remain. This figure is used in the recurrenc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mical remaining is 72%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5 t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.72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a few terms to estab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tter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linear coefficient (0.7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mportant.  -1 &lt; a &lt; 1 shows that a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exist for this situation. This is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ggested by the table of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948360" y="2708280"/>
          <a:ext cx="2195640" cy="4033800"/>
        </p:xfrm>
        <a:graphic>
          <a:graphicData uri="http://schemas.openxmlformats.org/drawingml/2006/table">
            <a:tbl>
              <a:tblPr/>
              <a:tblGrid>
                <a:gridCol w="1016280"/>
                <a:gridCol w="117936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3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427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82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6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17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96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5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7972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alculate the limit solv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0.72 L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L – 0.72L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8L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3.571428571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ity would need to rethink their strategy as the amount of chemical pollutant will never fall to 3 ton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Definitions and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120" y="2021040"/>
            <a:ext cx="81676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e starting value is referred to as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other times as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 You should be comfortable using either no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ust remember that the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erm may therefore be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or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respectively!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xplicit and Implicit Formula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9120" y="209700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ways of defining patterns or sequences of numbers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)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Formula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(as in Worked Examp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b)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icit Formula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(known as Recurrence Relations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xplicit</a:t>
            </a:r>
            <a:r>
              <a:rPr b="1" lang="en-GB" sz="2400" spc="-1" strike="noStrike">
                <a:solidFill>
                  <a:srgbClr val="cc6600"/>
                </a:solidFill>
                <a:latin typeface="Comic Sans MS"/>
                <a:ea typeface="Arial"/>
              </a:rPr>
              <a:t> 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ormul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120" y="2021040"/>
            <a:ext cx="82440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is given (explicitly) in terms of n.  This means it is easy to find the actual value of any term    e.g.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 without knowing the earlier on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shown 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orked Exampl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Implicit Formula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1716120"/>
            <a:ext cx="78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each term is determined (or implied) from the previous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5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0·8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7840" y="395280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known as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currence Rel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y form a recurring sequence based on the previous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Linear Recurrence Relatio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52480"/>
            <a:ext cx="839952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 far we have looked at the following types of recurrence relation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ultiply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dd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s when we combine these ide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ultiplying and add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Linear Recurr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097000"/>
            <a:ext cx="8091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Arial"/>
              </a:rPr>
              <a:t>Linear Recurrence Re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and in general 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a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an you see why it`s called linear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y = mx + c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720" y="4459320"/>
            <a:ext cx="6719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much more difficult to find a general (explicit) formula for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his time, though you should not be asked to do this by the SQ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O'Neill</dc:creator>
  <dc:description/>
  <dc:language>en-US</dc:language>
  <cp:lastModifiedBy>East Lothian Council</cp:lastModifiedBy>
  <dcterms:modified xsi:type="dcterms:W3CDTF">2002-09-30T07:47:30Z</dcterms:modified>
  <cp:revision>19</cp:revision>
  <dc:subject>Recurrence Relations</dc:subject>
  <dc:title>PowerPoint Presentation</dc:title>
</cp:coreProperties>
</file>