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0.bin" ContentType="application/vnd.openxmlformats-officedocument.oleObject"/>
  <Override PartName="/ppt/embeddings/oleObject9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4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25.bin" ContentType="application/vnd.openxmlformats-officedocument.oleObject"/>
  <Override PartName="/ppt/embeddings/oleObject9.docx" ContentType="application/vnd.openxmlformats-officedocument.wordprocessingml.document"/>
  <Override PartName="/ppt/embeddings/oleObject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1.bin" ContentType="application/vnd.openxmlformats-officedocument.oleObjec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2.bin" ContentType="application/vnd.openxmlformats-officedocument.oleObject"/>
  <Override PartName="/ppt/embeddings/oleObject26.bin" ContentType="application/vnd.openxmlformats-officedocument.oleObject"/>
  <Override PartName="/ppt/embeddings/oleObject24.bin" ContentType="application/vnd.openxmlformats-officedocument.oleObject"/>
  <Override PartName="/ppt/embeddings/oleObject6.docx" ContentType="application/vnd.openxmlformats-officedocument.wordprocessingml.document"/>
  <Override PartName="/ppt/embeddings/oleObject1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8.docx" ContentType="application/vnd.openxmlformats-officedocument.wordprocessingml.document"/>
  <Override PartName="/ppt/embeddings/oleObject14.bin" ContentType="application/vnd.openxmlformats-officedocument.oleObject"/>
  <Override PartName="/ppt/embeddings/oleObject7.docx" ContentType="application/vnd.openxmlformats-officedocument.wordprocessingml.document"/>
  <Override PartName="/ppt/embeddings/oleObject23.bin" ContentType="application/vnd.openxmlformats-officedocument.oleObject"/>
  <Override PartName="/ppt/embeddings/oleObject1.docx" ContentType="application/vnd.openxmlformats-officedocument.wordprocessingml.documen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127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56.wmf" ContentType="image/x-wmf"/>
  <Override PartName="/ppt/media/image16.png" ContentType="image/png"/>
  <Override PartName="/ppt/media/image57.wmf" ContentType="image/x-wmf"/>
  <Override PartName="/ppt/media/image17.png" ContentType="image/png"/>
  <Override PartName="/ppt/media/image78.wmf" ContentType="image/x-wmf"/>
  <Override PartName="/ppt/media/image87.wmf" ContentType="image/x-wmf"/>
  <Override PartName="/ppt/media/image88.wmf" ContentType="image/x-wmf"/>
  <Override PartName="/ppt/media/image90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A32-6093-4B22-8ECA-05B6000A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F36-460D-4A42-ACC6-8D0D54B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53C-DC5D-422A-ABB3-FF1329BC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F37-C54D-4CF7-8F08-08E81D76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445-A001-40AD-9335-DCA7C1F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C62-AC9D-4056-98E9-0753B8BA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D25-B2B3-4C00-B786-FD9CD1E1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851-BCDF-4A41-B6B6-9F7BB536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E5F-CF3B-4585-A78C-AED9BA44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547-80F1-4FB6-81B4-418A9DA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A95-5B83-4317-94F3-8FA263B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501-4CD0-42B0-B1CD-4C0EBEC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D935-47BD-4E50-BF9B-904984ACE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2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5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5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5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60.wmf"/><Relationship Id="rId5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4.wmf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9.wm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0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6.wmf"/><Relationship Id="rId3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9.wmf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7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Mathematicians/Briggs.html" TargetMode="External"/><Relationship Id="rId2" Type="http://schemas.openxmlformats.org/officeDocument/2006/relationships/hyperlink" Target="file:///../Mathematicians/Huygens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685800"/>
          <a:ext cx="5378400" cy="3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858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38080" y="31240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xponential &amp; Logarithmic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838080"/>
          <a:ext cx="5378400" cy="370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80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981080" y="990720"/>
          <a:ext cx="5378400" cy="369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9907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133720" y="1143000"/>
          <a:ext cx="5378400" cy="369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11430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0" y="1295280"/>
          <a:ext cx="5378400" cy="370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2952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438280" y="1447920"/>
          <a:ext cx="5378400" cy="369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14479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590920" y="1600200"/>
          <a:ext cx="5378400" cy="3697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002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743200" y="1752480"/>
          <a:ext cx="5378400" cy="3700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17524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95480" y="1905120"/>
          <a:ext cx="5378400" cy="36972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19051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48120" y="2057400"/>
          <a:ext cx="5378400" cy="36972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20574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of Loga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for Log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for indic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880" y="2057400"/>
          <a:ext cx="35816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3581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80880" y="3352680"/>
          <a:ext cx="35816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35816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85800" y="4800600"/>
          <a:ext cx="274320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27432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267080" y="2133720"/>
          <a:ext cx="464832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133720"/>
                    <a:ext cx="4648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343400" y="3200400"/>
          <a:ext cx="434340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3200400"/>
                    <a:ext cx="43434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572000" y="4952880"/>
          <a:ext cx="388620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952880"/>
                    <a:ext cx="3886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98108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19051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 –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28800" y="2514600"/>
          <a:ext cx="220968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22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828800" y="3048120"/>
          <a:ext cx="17002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048120"/>
                    <a:ext cx="1700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828800" y="3581280"/>
          <a:ext cx="50976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581280"/>
                    <a:ext cx="5097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0" y="2438280"/>
            <a:ext cx="1676520" cy="1219320"/>
            <a:chOff x="0" y="2438280"/>
            <a:chExt cx="1676520" cy="1219320"/>
          </a:xfrm>
        </p:grpSpPr>
        <p:sp>
          <p:nvSpPr>
            <p:cNvPr id="216" name=""/>
            <p:cNvSpPr/>
            <p:nvPr/>
          </p:nvSpPr>
          <p:spPr>
            <a:xfrm>
              <a:off x="0" y="2438280"/>
              <a:ext cx="1676520" cy="1219320"/>
            </a:xfrm>
            <a:prstGeom prst="cloudCallout">
              <a:avLst>
                <a:gd name="adj1" fmla="val 63541"/>
                <a:gd name="adj2" fmla="val 4466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" name=""/>
            <p:cNvGraphicFramePr/>
            <p:nvPr/>
          </p:nvGraphicFramePr>
          <p:xfrm>
            <a:off x="304920" y="3048120"/>
            <a:ext cx="1066680" cy="314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3048120"/>
                      <a:ext cx="10666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9" name=""/>
          <p:cNvGraphicFramePr/>
          <p:nvPr/>
        </p:nvGraphicFramePr>
        <p:xfrm>
          <a:off x="5867280" y="2362320"/>
          <a:ext cx="170028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362320"/>
                    <a:ext cx="1700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3352680"/>
          <a:ext cx="113364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352680"/>
                    <a:ext cx="1133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867280" y="3959280"/>
          <a:ext cx="5349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3959280"/>
                    <a:ext cx="5349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7467480" y="2895480"/>
            <a:ext cx="1676520" cy="1219320"/>
            <a:chOff x="7467480" y="2895480"/>
            <a:chExt cx="1676520" cy="1219320"/>
          </a:xfrm>
        </p:grpSpPr>
        <p:sp>
          <p:nvSpPr>
            <p:cNvPr id="226" name=""/>
            <p:cNvSpPr/>
            <p:nvPr/>
          </p:nvSpPr>
          <p:spPr>
            <a:xfrm>
              <a:off x="7467480" y="2895480"/>
              <a:ext cx="1676520" cy="1219320"/>
            </a:xfrm>
            <a:prstGeom prst="cloudCallout">
              <a:avLst>
                <a:gd name="adj1" fmla="val -108615"/>
                <a:gd name="adj2" fmla="val 429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7848720" y="3505320"/>
            <a:ext cx="630000" cy="314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48720" y="3505320"/>
                      <a:ext cx="63000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676520" y="1371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666880" y="1066680"/>
          <a:ext cx="346104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066680"/>
                    <a:ext cx="34610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791320" y="2590920"/>
          <a:ext cx="1396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590920"/>
                    <a:ext cx="139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971800" y="2438280"/>
          <a:ext cx="2635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43828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276720" y="2286000"/>
          <a:ext cx="2635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28600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657600" y="2362320"/>
          <a:ext cx="20484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886200" y="2362320"/>
          <a:ext cx="2048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114800" y="2438280"/>
          <a:ext cx="15084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2438280"/>
                    <a:ext cx="15084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267080" y="2590920"/>
          <a:ext cx="15084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2590920"/>
                    <a:ext cx="1508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2743200" y="2514600"/>
            <a:ext cx="3152880" cy="1066680"/>
            <a:chOff x="2743200" y="2514600"/>
            <a:chExt cx="3152880" cy="1066680"/>
          </a:xfrm>
        </p:grpSpPr>
        <p:graphicFrame>
          <p:nvGraphicFramePr>
            <p:cNvPr id="247" name=""/>
            <p:cNvGraphicFramePr/>
            <p:nvPr/>
          </p:nvGraphicFramePr>
          <p:xfrm>
            <a:off x="3051000" y="2754360"/>
            <a:ext cx="2845080" cy="577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51000" y="2754360"/>
                      <a:ext cx="28450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"/>
            <p:cNvGraphicFramePr/>
            <p:nvPr/>
          </p:nvGraphicFramePr>
          <p:xfrm>
            <a:off x="4648320" y="2590920"/>
            <a:ext cx="353880" cy="99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648320" y="2590920"/>
                      <a:ext cx="3538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2743200" y="2514600"/>
            <a:ext cx="382680" cy="990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43200" y="2514600"/>
                      <a:ext cx="3826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"/>
          <p:cNvSpPr/>
          <p:nvPr/>
        </p:nvSpPr>
        <p:spPr>
          <a:xfrm>
            <a:off x="2743200" y="2514600"/>
            <a:ext cx="30492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89640" y="2590920"/>
            <a:ext cx="3045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562720" y="2286000"/>
          <a:ext cx="2174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2286000"/>
                    <a:ext cx="217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280120" y="2133720"/>
          <a:ext cx="27144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8012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002200" y="2209680"/>
          <a:ext cx="24444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02200" y="2209680"/>
                    <a:ext cx="24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724280" y="2133720"/>
          <a:ext cx="271440" cy="761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2428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362320" y="2819520"/>
          <a:ext cx="533160" cy="479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62320" y="2819520"/>
                    <a:ext cx="5331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362320" y="3483000"/>
          <a:ext cx="533160" cy="479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362320" y="348300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971800" y="3276720"/>
          <a:ext cx="3505320" cy="71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971800" y="3276720"/>
                    <a:ext cx="35053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362320" y="4092480"/>
          <a:ext cx="533160" cy="479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40924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971800" y="3924360"/>
          <a:ext cx="2666880" cy="641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971800" y="3924360"/>
                    <a:ext cx="2666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362320" y="4549680"/>
          <a:ext cx="533160" cy="479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362320" y="45496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048120" y="4495680"/>
          <a:ext cx="909360" cy="489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48120" y="4495680"/>
                    <a:ext cx="9093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362320" y="5006880"/>
          <a:ext cx="533160" cy="479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362320" y="50068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124080" y="4876920"/>
          <a:ext cx="262080" cy="488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124080" y="4876920"/>
                    <a:ext cx="2620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914400" y="3276720"/>
            <a:ext cx="1676520" cy="1218960"/>
            <a:chOff x="914400" y="3276720"/>
            <a:chExt cx="1676520" cy="1218960"/>
          </a:xfrm>
        </p:grpSpPr>
        <p:sp>
          <p:nvSpPr>
            <p:cNvPr id="282" name=""/>
            <p:cNvSpPr/>
            <p:nvPr/>
          </p:nvSpPr>
          <p:spPr>
            <a:xfrm>
              <a:off x="914400" y="3276720"/>
              <a:ext cx="1676520" cy="1218960"/>
            </a:xfrm>
            <a:prstGeom prst="cloudCallout">
              <a:avLst>
                <a:gd name="adj1" fmla="val 80300"/>
                <a:gd name="adj2" fmla="val 638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1258920" y="3876840"/>
            <a:ext cx="985680" cy="33480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1258920" y="3876840"/>
                      <a:ext cx="98568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5105520" y="4800600"/>
            <a:ext cx="1676160" cy="1219320"/>
            <a:chOff x="5105520" y="4800600"/>
            <a:chExt cx="1676160" cy="1219320"/>
          </a:xfrm>
        </p:grpSpPr>
        <p:sp>
          <p:nvSpPr>
            <p:cNvPr id="286" name=""/>
            <p:cNvSpPr/>
            <p:nvPr/>
          </p:nvSpPr>
          <p:spPr>
            <a:xfrm>
              <a:off x="5105520" y="4800600"/>
              <a:ext cx="1676160" cy="1219320"/>
            </a:xfrm>
            <a:prstGeom prst="cloudCallout">
              <a:avLst>
                <a:gd name="adj1" fmla="val -122254"/>
                <a:gd name="adj2" fmla="val -5390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7" name=""/>
            <p:cNvGraphicFramePr/>
            <p:nvPr/>
          </p:nvGraphicFramePr>
          <p:xfrm>
            <a:off x="5410080" y="5410080"/>
            <a:ext cx="928800" cy="33516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410080" y="5410080"/>
                      <a:ext cx="928800" cy="3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2 logarithm  buttons on your calcul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2133720"/>
            <a:ext cx="64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9718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213372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629400" y="1752480"/>
            <a:ext cx="609480" cy="838080"/>
            <a:chOff x="6629400" y="1752480"/>
            <a:chExt cx="609480" cy="838080"/>
          </a:xfrm>
        </p:grpSpPr>
        <p:sp>
          <p:nvSpPr>
            <p:cNvPr id="295" name=""/>
            <p:cNvSpPr/>
            <p:nvPr/>
          </p:nvSpPr>
          <p:spPr>
            <a:xfrm>
              <a:off x="6629400" y="213336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6632280" y="1752480"/>
            <a:ext cx="45432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32280" y="1752480"/>
                      <a:ext cx="4543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8" name=""/>
          <p:cNvSpPr/>
          <p:nvPr/>
        </p:nvSpPr>
        <p:spPr>
          <a:xfrm>
            <a:off x="838080" y="29718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705720" y="2666880"/>
            <a:ext cx="609480" cy="838440"/>
            <a:chOff x="6705720" y="2666880"/>
            <a:chExt cx="609480" cy="838440"/>
          </a:xfrm>
        </p:grpSpPr>
        <p:graphicFrame>
          <p:nvGraphicFramePr>
            <p:cNvPr id="300" name=""/>
            <p:cNvGraphicFramePr/>
            <p:nvPr/>
          </p:nvGraphicFramePr>
          <p:xfrm>
            <a:off x="6705720" y="2666880"/>
            <a:ext cx="30960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2666880"/>
                      <a:ext cx="3096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6705720" y="304812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38080" y="3809880"/>
            <a:ext cx="76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finding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on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38098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66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95280" y="838080"/>
            <a:ext cx="3048120" cy="772920"/>
            <a:chOff x="1295280" y="838080"/>
            <a:chExt cx="3048120" cy="772920"/>
          </a:xfrm>
        </p:grpSpPr>
        <p:sp>
          <p:nvSpPr>
            <p:cNvPr id="307" name=""/>
            <p:cNvSpPr/>
            <p:nvPr/>
          </p:nvSpPr>
          <p:spPr>
            <a:xfrm>
              <a:off x="1295280" y="990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2590920" y="838080"/>
            <a:ext cx="1752480" cy="77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838080"/>
                      <a:ext cx="175248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"/>
          <p:cNvSpPr/>
          <p:nvPr/>
        </p:nvSpPr>
        <p:spPr>
          <a:xfrm>
            <a:off x="99072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  and  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   so we can see that x lies between ……and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2590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logs of both sides and applying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95280" y="3043080"/>
          <a:ext cx="4137120" cy="9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3080"/>
                    <a:ext cx="41371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819520" y="3809880"/>
          <a:ext cx="38232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3823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438280" y="3733920"/>
          <a:ext cx="382680" cy="73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133720" y="3733920"/>
          <a:ext cx="382320" cy="73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828800" y="3733920"/>
          <a:ext cx="3826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523880" y="3733920"/>
          <a:ext cx="3826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219320" y="3733920"/>
          <a:ext cx="382320" cy="73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838080" y="3809880"/>
          <a:ext cx="51912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3809880"/>
                    <a:ext cx="519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049400" y="3962520"/>
          <a:ext cx="638280" cy="121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9400" y="3962520"/>
                    <a:ext cx="638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447920" y="3962520"/>
          <a:ext cx="389412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47920" y="3962520"/>
                    <a:ext cx="3894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930400" y="3927600"/>
            <a:ext cx="2286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838080" y="4800600"/>
          <a:ext cx="4673880" cy="164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4800600"/>
                    <a:ext cx="46738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ormula P(t) = 50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alue of t is P(t) = ½P(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57400" y="1905120"/>
          <a:ext cx="358128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3581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11430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963800" y="2425680"/>
          <a:ext cx="377028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2425680"/>
                    <a:ext cx="37702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752560" y="3635280"/>
          <a:ext cx="207360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635280"/>
                    <a:ext cx="2073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048120" y="4267080"/>
          <a:ext cx="14652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267080"/>
                    <a:ext cx="14652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228600" y="3733920"/>
            <a:ext cx="2286000" cy="1371600"/>
          </a:xfrm>
          <a:prstGeom prst="cloudCallout">
            <a:avLst>
              <a:gd name="adj1" fmla="val 73541"/>
              <a:gd name="adj2" fmla="val 328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141640" y="5276880"/>
          <a:ext cx="3127320" cy="12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1640" y="5276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2286000" y="380880"/>
          <a:ext cx="312732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192400" y="2092320"/>
          <a:ext cx="34671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0" y="2092320"/>
                    <a:ext cx="3467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2610000" y="3160800"/>
          <a:ext cx="29718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0000" y="3160800"/>
                    <a:ext cx="2971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268800" y="3795840"/>
          <a:ext cx="2073240" cy="11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8800" y="3795840"/>
                    <a:ext cx="20732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429000" y="5257800"/>
          <a:ext cx="17287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5257800"/>
                    <a:ext cx="1728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762120"/>
            <a:ext cx="76960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rmula    A = 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k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s the amount of a radioactive substance after time t minutes.  After 4 minutes 50g is reduced to 45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value of k to two significant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38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133720" y="3352680"/>
          <a:ext cx="9363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936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452760" y="3314880"/>
          <a:ext cx="187812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276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715000" y="3314880"/>
          <a:ext cx="187812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057400" y="419112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1911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819520" y="4114800"/>
          <a:ext cx="2141280" cy="59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4114800"/>
                    <a:ext cx="21412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0" y="4191120"/>
            <a:ext cx="2590920" cy="1600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log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057400" y="4800600"/>
          <a:ext cx="728640" cy="5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2819520" y="4648320"/>
          <a:ext cx="35766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4648320"/>
                    <a:ext cx="3576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057400" y="541008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54100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819520" y="5334120"/>
          <a:ext cx="4029120" cy="679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19520" y="5334120"/>
                    <a:ext cx="4029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057400" y="6019920"/>
          <a:ext cx="728640" cy="577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6019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819520" y="5983200"/>
          <a:ext cx="3765600" cy="59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5983200"/>
                    <a:ext cx="3765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905120" y="304920"/>
          <a:ext cx="37656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37656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2057400" y="914400"/>
          <a:ext cx="335124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14400"/>
                    <a:ext cx="3351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1143000" y="1219320"/>
          <a:ext cx="72864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2057400" y="2590920"/>
          <a:ext cx="278748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590920"/>
                    <a:ext cx="2787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1143000" y="2590920"/>
          <a:ext cx="728640" cy="57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590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5181480" y="762120"/>
            <a:ext cx="3353040" cy="2743200"/>
            <a:chOff x="5181480" y="762120"/>
            <a:chExt cx="3353040" cy="2743200"/>
          </a:xfrm>
        </p:grpSpPr>
        <p:sp>
          <p:nvSpPr>
            <p:cNvPr id="398" name=""/>
            <p:cNvSpPr/>
            <p:nvPr/>
          </p:nvSpPr>
          <p:spPr>
            <a:xfrm>
              <a:off x="5181480" y="762120"/>
              <a:ext cx="3353040" cy="27432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9" name=""/>
            <p:cNvGraphicFramePr/>
            <p:nvPr/>
          </p:nvGraphicFramePr>
          <p:xfrm>
            <a:off x="5943600" y="2286360"/>
            <a:ext cx="1523880" cy="58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43600" y="2286360"/>
                      <a:ext cx="15238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1" name=""/>
          <p:cNvGraphicFramePr/>
          <p:nvPr/>
        </p:nvGraphicFramePr>
        <p:xfrm>
          <a:off x="2057400" y="3352680"/>
          <a:ext cx="240660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3352680"/>
                    <a:ext cx="2406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43000" y="365760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3657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1143000" y="480060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057400" y="4740120"/>
          <a:ext cx="207324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4740120"/>
                    <a:ext cx="2073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219320" y="609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38320" y="1449360"/>
          <a:ext cx="380844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449360"/>
                    <a:ext cx="38084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2082960" y="2514600"/>
          <a:ext cx="207324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2960" y="2514600"/>
                    <a:ext cx="20732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2082960" y="3657600"/>
          <a:ext cx="3728880" cy="12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2960" y="3657600"/>
                    <a:ext cx="37288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1066680" y="297180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082960" y="5029200"/>
          <a:ext cx="44845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2960" y="5029200"/>
                    <a:ext cx="4484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082960" y="5867280"/>
          <a:ext cx="5689440" cy="5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82960" y="5867280"/>
                    <a:ext cx="5689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066680" y="3886200"/>
          <a:ext cx="728640" cy="57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38862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066680" y="510552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51055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066680" y="586728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66680" y="58672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6248520"/>
            <a:ext cx="44960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 Growth &amp;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21932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puts £2500 into a savings account earning 13% interest per annum.  How much money will she have if she leaves it there for 15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£A(n) be the amount in her account after n year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95240" y="3886200"/>
          <a:ext cx="175284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3886200"/>
                    <a:ext cx="17528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95240" y="4299120"/>
          <a:ext cx="542628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240" y="4299120"/>
                    <a:ext cx="54262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95240" y="4770360"/>
          <a:ext cx="531360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5240" y="4770360"/>
                    <a:ext cx="5313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95240" y="5243400"/>
          <a:ext cx="539928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240" y="5243400"/>
                    <a:ext cx="5399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95240" y="5715000"/>
          <a:ext cx="624708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5240" y="5715000"/>
                    <a:ext cx="62470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715000" y="3124080"/>
          <a:ext cx="1569960" cy="175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3124080"/>
                    <a:ext cx="15699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400800" y="3733920"/>
          <a:ext cx="1569960" cy="175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733920"/>
                    <a:ext cx="15699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781680" y="4191120"/>
          <a:ext cx="1228680" cy="13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4191120"/>
                    <a:ext cx="12286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086600" y="4800600"/>
          <a:ext cx="88740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4800600"/>
                    <a:ext cx="88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38880" y="5334120"/>
          <a:ext cx="68292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5334120"/>
                    <a:ext cx="682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010280" y="5486400"/>
          <a:ext cx="54612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10280" y="5486400"/>
                    <a:ext cx="546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0" y="5638680"/>
          <a:ext cx="40968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0" y="5638680"/>
                    <a:ext cx="409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838080" y="6172200"/>
          <a:ext cx="4494240" cy="509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6172200"/>
                    <a:ext cx="44942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1932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 and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0666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conducting an experiment scientists may analyse the data to find if a formula connecting the variables exi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rom an experiment may result in a graph of the form shown in the diagram, indicating exponential growth.  A graph such as this implies a formula of the typ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724280" y="1143000"/>
          <a:ext cx="44197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419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38080" y="6858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find this formula by using loga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441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3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4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449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143000" y="5106960"/>
          <a:ext cx="1770120" cy="598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510696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733920" y="5197320"/>
          <a:ext cx="1163520" cy="416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5197320"/>
                    <a:ext cx="11635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467320" y="5105520"/>
          <a:ext cx="165888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67320" y="510552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"/>
          <p:cNvGrpSpPr/>
          <p:nvPr/>
        </p:nvGrpSpPr>
        <p:grpSpPr>
          <a:xfrm>
            <a:off x="762120" y="5715000"/>
            <a:ext cx="4952880" cy="838080"/>
            <a:chOff x="762120" y="5715000"/>
            <a:chExt cx="4952880" cy="838080"/>
          </a:xfrm>
        </p:grpSpPr>
        <p:sp>
          <p:nvSpPr>
            <p:cNvPr id="466" name=""/>
            <p:cNvSpPr/>
            <p:nvPr/>
          </p:nvSpPr>
          <p:spPr>
            <a:xfrm>
              <a:off x="762120" y="5715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6019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390680" y="5862600"/>
              <a:ext cx="4249800" cy="679320"/>
              <a:chOff x="1390680" y="5862600"/>
              <a:chExt cx="4249800" cy="67932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1390680" y="5862600"/>
                <a:ext cx="3049560" cy="679320"/>
                <a:chOff x="1390680" y="5862600"/>
                <a:chExt cx="3049560" cy="679320"/>
              </a:xfrm>
            </p:grpSpPr>
            <p:graphicFrame>
              <p:nvGraphicFramePr>
                <p:cNvPr id="470" name=""/>
                <p:cNvGraphicFramePr/>
                <p:nvPr/>
              </p:nvGraphicFramePr>
              <p:xfrm>
                <a:off x="1390680" y="5862600"/>
                <a:ext cx="3049560" cy="67932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471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1390680" y="5862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72" name=""/>
                <p:cNvSpPr/>
                <p:nvPr/>
              </p:nvSpPr>
              <p:spPr>
                <a:xfrm>
                  <a:off x="2720880" y="5938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73" name=""/>
              <p:cNvGraphicFramePr/>
              <p:nvPr/>
            </p:nvGraphicFramePr>
            <p:xfrm>
              <a:off x="2971800" y="5943600"/>
              <a:ext cx="1012680" cy="5983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74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971800" y="5943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5" name=""/>
              <p:cNvGraphicFramePr/>
              <p:nvPr/>
            </p:nvGraphicFramePr>
            <p:xfrm>
              <a:off x="4365720" y="5943600"/>
              <a:ext cx="1274760" cy="5983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76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365720" y="5943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77" name=""/>
          <p:cNvSpPr/>
          <p:nvPr/>
        </p:nvSpPr>
        <p:spPr>
          <a:xfrm>
            <a:off x="5943600" y="5715000"/>
            <a:ext cx="25909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equation of a straight 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477120" y="1143000"/>
          <a:ext cx="2438280" cy="1995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77120" y="1143000"/>
                    <a:ext cx="243828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457200" y="685800"/>
          <a:ext cx="4800600" cy="39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480060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5486400" y="533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553080" y="457200"/>
          <a:ext cx="142560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5720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5562720" y="15238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ee by taking logs that we can reduce this problem to a straight line problem 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286000" y="4572000"/>
            <a:ext cx="4952880" cy="838080"/>
            <a:chOff x="2286000" y="4572000"/>
            <a:chExt cx="4952880" cy="838080"/>
          </a:xfrm>
        </p:grpSpPr>
        <p:sp>
          <p:nvSpPr>
            <p:cNvPr id="487" name=""/>
            <p:cNvSpPr/>
            <p:nvPr/>
          </p:nvSpPr>
          <p:spPr>
            <a:xfrm>
              <a:off x="2286000" y="4572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1960" y="4876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2914560" y="4719600"/>
              <a:ext cx="4249800" cy="679320"/>
              <a:chOff x="2914560" y="4719600"/>
              <a:chExt cx="4249800" cy="6793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914560" y="4719600"/>
                <a:ext cx="3049560" cy="679320"/>
                <a:chOff x="2914560" y="4719600"/>
                <a:chExt cx="3049560" cy="679320"/>
              </a:xfrm>
            </p:grpSpPr>
            <p:graphicFrame>
              <p:nvGraphicFramePr>
                <p:cNvPr id="491" name=""/>
                <p:cNvGraphicFramePr/>
                <p:nvPr/>
              </p:nvGraphicFramePr>
              <p:xfrm>
                <a:off x="2914560" y="4719600"/>
                <a:ext cx="3049560" cy="679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92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914560" y="4719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93" name=""/>
                <p:cNvSpPr/>
                <p:nvPr/>
              </p:nvSpPr>
              <p:spPr>
                <a:xfrm>
                  <a:off x="4244760" y="4795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94" name=""/>
              <p:cNvGraphicFramePr/>
              <p:nvPr/>
            </p:nvGraphicFramePr>
            <p:xfrm>
              <a:off x="4495680" y="4800600"/>
              <a:ext cx="1012680" cy="598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495680" y="4800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6" name=""/>
              <p:cNvGraphicFramePr/>
              <p:nvPr/>
            </p:nvGraphicFramePr>
            <p:xfrm>
              <a:off x="5889600" y="4800600"/>
              <a:ext cx="1274760" cy="598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9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889600" y="4800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98" name=""/>
          <p:cNvSpPr/>
          <p:nvPr/>
        </p:nvSpPr>
        <p:spPr>
          <a:xfrm>
            <a:off x="685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76520" y="5929200"/>
          <a:ext cx="1770120" cy="59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92920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4267080" y="6019920"/>
          <a:ext cx="1163880" cy="41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6019920"/>
                    <a:ext cx="1163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000840" y="5927760"/>
          <a:ext cx="1658880" cy="60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00840" y="592776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580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data was collected during an 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57200" y="1600200"/>
          <a:ext cx="9982080" cy="121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998208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609480" y="281952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  Show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related by the formul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  Find the values of k and n and state the formula that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572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log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28600" y="1066680"/>
          <a:ext cx="8229600" cy="9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2296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1447920" y="2514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76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ting thes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62120" y="2514600"/>
          <a:ext cx="5562360" cy="390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14600"/>
                    <a:ext cx="556236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6858000" y="2286000"/>
            <a:ext cx="198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et a straight line and hence the formula connecting X and Y i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781680" y="5105520"/>
          <a:ext cx="19908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5105520"/>
                    <a:ext cx="1990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838080" y="6858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Since the points lie on a straight line, we can sa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537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0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4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545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7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62120" y="457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electing points on the graph and substituting into this equation we ge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600200" y="1219320"/>
          <a:ext cx="21398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2139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3890880" y="1219320"/>
          <a:ext cx="222084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0880" y="1219320"/>
                    <a:ext cx="2220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1828800" y="2057400"/>
          <a:ext cx="30114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057400"/>
                    <a:ext cx="30114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1773360" y="2666880"/>
          <a:ext cx="312408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3360" y="2666880"/>
                    <a:ext cx="3124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2860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828800" y="3581280"/>
          <a:ext cx="244620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3581280"/>
                    <a:ext cx="2446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057400" y="4114800"/>
          <a:ext cx="1768320" cy="11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114800"/>
                    <a:ext cx="176832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057400" y="5562720"/>
          <a:ext cx="14637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5562720"/>
                    <a:ext cx="1463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5203800" y="3657600"/>
          <a:ext cx="357660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03800" y="3657600"/>
                    <a:ext cx="3576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6172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6208560" y="4572000"/>
          <a:ext cx="135432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08560" y="4572000"/>
                    <a:ext cx="13543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914400" y="609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573280" y="609480"/>
          <a:ext cx="278604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3280" y="609480"/>
                    <a:ext cx="27860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228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2076480" y="1747800"/>
            <a:ext cx="3049560" cy="679320"/>
            <a:chOff x="2076480" y="1747800"/>
            <a:chExt cx="3049560" cy="679320"/>
          </a:xfrm>
        </p:grpSpPr>
        <p:graphicFrame>
          <p:nvGraphicFramePr>
            <p:cNvPr id="582" name=""/>
            <p:cNvGraphicFramePr/>
            <p:nvPr/>
          </p:nvGraphicFramePr>
          <p:xfrm>
            <a:off x="2076480" y="1747800"/>
            <a:ext cx="3049560" cy="67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76480" y="174780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4" name=""/>
            <p:cNvSpPr/>
            <p:nvPr/>
          </p:nvSpPr>
          <p:spPr>
            <a:xfrm>
              <a:off x="3406680" y="182412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5" name=""/>
          <p:cNvGraphicFramePr/>
          <p:nvPr/>
        </p:nvGraphicFramePr>
        <p:xfrm>
          <a:off x="3657600" y="1828800"/>
          <a:ext cx="101268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828800"/>
                    <a:ext cx="1012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5051520" y="1828800"/>
          <a:ext cx="1274760" cy="5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1520" y="1828800"/>
                    <a:ext cx="12747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1981080" y="2835360"/>
          <a:ext cx="71136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2835360"/>
                    <a:ext cx="7113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3657600" y="281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495680" y="2743200"/>
          <a:ext cx="135756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743200"/>
                    <a:ext cx="13575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2819520" y="2781360"/>
          <a:ext cx="7095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2781360"/>
                    <a:ext cx="709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5943600" y="2781360"/>
          <a:ext cx="67788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27813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6858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3733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200400" y="4419720"/>
          <a:ext cx="157968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4419720"/>
                    <a:ext cx="1579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3048120" y="3657600"/>
          <a:ext cx="1357200" cy="59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3657600"/>
                    <a:ext cx="13572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4495680" y="3695760"/>
          <a:ext cx="677880" cy="523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36957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3200400" y="5181480"/>
          <a:ext cx="157968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00400" y="5181480"/>
                    <a:ext cx="1579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16765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514600" y="5867280"/>
          <a:ext cx="4140360" cy="679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14600" y="5867280"/>
                    <a:ext cx="4140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7162920" y="2590920"/>
            <a:ext cx="167616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ways check this on your graphics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8120" y="5638680"/>
            <a:ext cx="266688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80880"/>
            <a:ext cx="838224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 of an urban district is decreasing at the rate of 2% per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the initial population, find a formula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,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fter n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will it take for the population to drop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0 000 to 800 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3657600"/>
          <a:ext cx="403848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4038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173240" y="4208400"/>
          <a:ext cx="397656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208400"/>
                    <a:ext cx="39765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257800" y="4229280"/>
          <a:ext cx="3200400" cy="49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29280"/>
                    <a:ext cx="32004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1781280" y="3276720"/>
            <a:ext cx="6245280" cy="1009440"/>
            <a:chOff x="1781280" y="3276720"/>
            <a:chExt cx="6245280" cy="1009440"/>
          </a:xfrm>
        </p:grpSpPr>
        <p:sp>
          <p:nvSpPr>
            <p:cNvPr id="100" name=""/>
            <p:cNvSpPr/>
            <p:nvPr/>
          </p:nvSpPr>
          <p:spPr>
            <a:xfrm>
              <a:off x="1781280" y="3914640"/>
              <a:ext cx="6245280" cy="371520"/>
            </a:xfrm>
            <a:custGeom>
              <a:avLst/>
              <a:gdLst/>
              <a:ahLst/>
              <a:rect l="l" t="t" r="r" b="b"/>
              <a:pathLst>
                <a:path w="3934" h="234">
                  <a:moveTo>
                    <a:pt x="0" y="234"/>
                  </a:moveTo>
                  <a:cubicBezTo>
                    <a:pt x="137" y="189"/>
                    <a:pt x="219" y="158"/>
                    <a:pt x="367" y="145"/>
                  </a:cubicBezTo>
                  <a:cubicBezTo>
                    <a:pt x="670" y="155"/>
                    <a:pt x="952" y="164"/>
                    <a:pt x="1256" y="156"/>
                  </a:cubicBezTo>
                  <a:cubicBezTo>
                    <a:pt x="1478" y="173"/>
                    <a:pt x="1701" y="175"/>
                    <a:pt x="1923" y="189"/>
                  </a:cubicBezTo>
                  <a:cubicBezTo>
                    <a:pt x="2069" y="181"/>
                    <a:pt x="2203" y="159"/>
                    <a:pt x="2345" y="134"/>
                  </a:cubicBezTo>
                  <a:cubicBezTo>
                    <a:pt x="2387" y="127"/>
                    <a:pt x="2425" y="106"/>
                    <a:pt x="2467" y="100"/>
                  </a:cubicBezTo>
                  <a:cubicBezTo>
                    <a:pt x="2507" y="94"/>
                    <a:pt x="2680" y="81"/>
                    <a:pt x="2712" y="78"/>
                  </a:cubicBezTo>
                  <a:cubicBezTo>
                    <a:pt x="2840" y="52"/>
                    <a:pt x="2959" y="16"/>
                    <a:pt x="3090" y="0"/>
                  </a:cubicBezTo>
                  <a:cubicBezTo>
                    <a:pt x="3294" y="6"/>
                    <a:pt x="3439" y="4"/>
                    <a:pt x="3623" y="34"/>
                  </a:cubicBezTo>
                  <a:cubicBezTo>
                    <a:pt x="3671" y="53"/>
                    <a:pt x="3719" y="62"/>
                    <a:pt x="3768" y="78"/>
                  </a:cubicBezTo>
                  <a:cubicBezTo>
                    <a:pt x="3888" y="160"/>
                    <a:pt x="3790" y="94"/>
                    <a:pt x="3868" y="145"/>
                  </a:cubicBezTo>
                  <a:cubicBezTo>
                    <a:pt x="3879" y="152"/>
                    <a:pt x="3901" y="167"/>
                    <a:pt x="3901" y="167"/>
                  </a:cubicBezTo>
                  <a:cubicBezTo>
                    <a:pt x="3928" y="207"/>
                    <a:pt x="3917" y="188"/>
                    <a:pt x="3934" y="223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1190520" y="4724280"/>
          <a:ext cx="410076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0520" y="4724280"/>
                    <a:ext cx="41007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81640" y="4737240"/>
          <a:ext cx="3305160" cy="49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1640" y="4737240"/>
                    <a:ext cx="3305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933560" y="4505400"/>
            <a:ext cx="6245280" cy="371520"/>
          </a:xfrm>
          <a:custGeom>
            <a:avLst/>
            <a:gdLst/>
            <a:ahLst/>
            <a:rect l="l" t="t" r="r" b="b"/>
            <a:pathLst>
              <a:path w="3934" h="234">
                <a:moveTo>
                  <a:pt x="0" y="234"/>
                </a:moveTo>
                <a:cubicBezTo>
                  <a:pt x="137" y="189"/>
                  <a:pt x="219" y="158"/>
                  <a:pt x="367" y="145"/>
                </a:cubicBezTo>
                <a:cubicBezTo>
                  <a:pt x="670" y="155"/>
                  <a:pt x="952" y="164"/>
                  <a:pt x="1256" y="156"/>
                </a:cubicBezTo>
                <a:cubicBezTo>
                  <a:pt x="1478" y="173"/>
                  <a:pt x="1701" y="175"/>
                  <a:pt x="1923" y="189"/>
                </a:cubicBezTo>
                <a:cubicBezTo>
                  <a:pt x="2069" y="181"/>
                  <a:pt x="2203" y="159"/>
                  <a:pt x="2345" y="134"/>
                </a:cubicBezTo>
                <a:cubicBezTo>
                  <a:pt x="2387" y="127"/>
                  <a:pt x="2425" y="106"/>
                  <a:pt x="2467" y="100"/>
                </a:cubicBezTo>
                <a:cubicBezTo>
                  <a:pt x="2507" y="94"/>
                  <a:pt x="2680" y="81"/>
                  <a:pt x="2712" y="78"/>
                </a:cubicBezTo>
                <a:cubicBezTo>
                  <a:pt x="2840" y="52"/>
                  <a:pt x="2959" y="16"/>
                  <a:pt x="3090" y="0"/>
                </a:cubicBezTo>
                <a:cubicBezTo>
                  <a:pt x="3294" y="6"/>
                  <a:pt x="3439" y="4"/>
                  <a:pt x="3623" y="34"/>
                </a:cubicBezTo>
                <a:cubicBezTo>
                  <a:pt x="3671" y="53"/>
                  <a:pt x="3719" y="62"/>
                  <a:pt x="3768" y="78"/>
                </a:cubicBezTo>
                <a:cubicBezTo>
                  <a:pt x="3888" y="160"/>
                  <a:pt x="3790" y="94"/>
                  <a:pt x="3868" y="145"/>
                </a:cubicBezTo>
                <a:cubicBezTo>
                  <a:pt x="3879" y="152"/>
                  <a:pt x="3901" y="167"/>
                  <a:pt x="3901" y="167"/>
                </a:cubicBezTo>
                <a:cubicBezTo>
                  <a:pt x="3928" y="207"/>
                  <a:pt x="3917" y="188"/>
                  <a:pt x="3934" y="223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8120" y="5638680"/>
          <a:ext cx="266688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5638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572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ur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14600" y="1066680"/>
          <a:ext cx="2666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990720" y="2209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setting up the graphing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410080"/>
            <a:ext cx="53337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fifth year the population drops below 8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95280" y="3048120"/>
          <a:ext cx="2886120" cy="19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8120"/>
                    <a:ext cx="2886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343400" y="3048120"/>
          <a:ext cx="2895480" cy="19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28954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6094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bbit population on an island increases by 15% each year.  How many years will it take for the population to at least dou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3000" y="3048120"/>
          <a:ext cx="4006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4006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066680" y="2362320"/>
            <a:ext cx="4952880" cy="555480"/>
            <a:chOff x="1066680" y="2362320"/>
            <a:chExt cx="4952880" cy="555480"/>
          </a:xfrm>
        </p:grpSpPr>
        <p:graphicFrame>
          <p:nvGraphicFramePr>
            <p:cNvPr id="124" name=""/>
            <p:cNvGraphicFramePr/>
            <p:nvPr/>
          </p:nvGraphicFramePr>
          <p:xfrm>
            <a:off x="1600200" y="2362320"/>
            <a:ext cx="396720" cy="5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2362320"/>
                      <a:ext cx="39672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1066680" y="23623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t       be the initial 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7" name=""/>
          <p:cNvGraphicFramePr/>
          <p:nvPr/>
        </p:nvGraphicFramePr>
        <p:xfrm>
          <a:off x="1143000" y="3568680"/>
          <a:ext cx="542448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568680"/>
                    <a:ext cx="5424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43000" y="4114800"/>
          <a:ext cx="548640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114800"/>
                    <a:ext cx="54864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19320" y="4724280"/>
          <a:ext cx="2249280" cy="58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724280"/>
                    <a:ext cx="22492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1219320" y="5380200"/>
            <a:ext cx="2514600" cy="639720"/>
            <a:chOff x="1219320" y="5380200"/>
            <a:chExt cx="2514600" cy="639720"/>
          </a:xfrm>
        </p:grpSpPr>
        <p:sp>
          <p:nvSpPr>
            <p:cNvPr id="134" name=""/>
            <p:cNvSpPr/>
            <p:nvPr/>
          </p:nvSpPr>
          <p:spPr>
            <a:xfrm>
              <a:off x="1219320" y="5410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752480" y="5380200"/>
            <a:ext cx="1067040" cy="63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5380200"/>
                      <a:ext cx="106704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6019920" y="5334120"/>
            <a:ext cx="2438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4 years the populatio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581280" y="5257800"/>
          <a:ext cx="1981440" cy="1371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5257800"/>
                    <a:ext cx="1981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Exponential Function – the “Number”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8701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tter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value 2.718….. (a never ending decimal). This number occurs often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19320" y="2209680"/>
            <a:ext cx="6933960" cy="914400"/>
            <a:chOff x="1219320" y="2209680"/>
            <a:chExt cx="6933960" cy="914400"/>
          </a:xfrm>
        </p:grpSpPr>
        <p:sp>
          <p:nvSpPr>
            <p:cNvPr id="143" name=""/>
            <p:cNvSpPr/>
            <p:nvPr/>
          </p:nvSpPr>
          <p:spPr>
            <a:xfrm>
              <a:off x="1219320" y="2209680"/>
              <a:ext cx="655308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2286000"/>
              <a:ext cx="69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= 2.718..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is called the exponential function to the base </a:t>
              </a: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3429000"/>
            <a:ext cx="84582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though we now think of logarithms as the exponents to which one must raise the base to get the required number, this is a modern way of thinking. In 1624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lmost made it into the mathematical literature, but not quite. In that yea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rigg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gave a numerical approximation to the base 10 logarithm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ut did not menti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tself in his wor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rtainly by 1661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uyge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nderstood the relation between the rectangular hyperbola and the logarithm. He examined explicitly the relation between the area under the rectangular hyperbol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1 and the logarithm. Of course, the numb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such that the area under the rectangular hyperbola from 1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equal to 1. This is the property that make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base of natural logarithms, but this was not understood by mathematicians at this time, although they were slowly approaching such a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of a fixed quantity of radioactive substance decays according to the formula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0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0.0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 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ass in grams                                     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time in years.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ss after 12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66880" y="2971800"/>
          <a:ext cx="361980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61980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457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ing the Exponential Function and the Logarithm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371600"/>
            <a:ext cx="4341960" cy="3201840"/>
            <a:chOff x="457200" y="1371600"/>
            <a:chExt cx="4341960" cy="3201840"/>
          </a:xfrm>
        </p:grpSpPr>
        <p:graphicFrame>
          <p:nvGraphicFramePr>
            <p:cNvPr id="151" name=""/>
            <p:cNvGraphicFramePr/>
            <p:nvPr/>
          </p:nvGraphicFramePr>
          <p:xfrm>
            <a:off x="457200" y="1371600"/>
            <a:ext cx="4267080" cy="32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371600"/>
                      <a:ext cx="4267080" cy="32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2362320" y="1371600"/>
            <a:ext cx="99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1371600"/>
                      <a:ext cx="99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3886200" y="1981080"/>
            <a:ext cx="912960" cy="36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981080"/>
                      <a:ext cx="9129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1066680" y="2362320"/>
            <a:ext cx="533520" cy="32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6232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438280" y="3429000"/>
            <a:ext cx="533520" cy="325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38280" y="342900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1" name=""/>
          <p:cNvSpPr/>
          <p:nvPr/>
        </p:nvSpPr>
        <p:spPr>
          <a:xfrm>
            <a:off x="5486400" y="10666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hapter 2.2 we found that the exponential function has an inverse function, called the logarithmic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638680" y="3505320"/>
          <a:ext cx="274320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505320"/>
                    <a:ext cx="2743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724280" y="1981080"/>
          <a:ext cx="685800" cy="36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1981080"/>
                    <a:ext cx="685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99072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 function is the inverse of the exponential function, so it ‘undoes’ the exponentia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2280" y="304920"/>
          <a:ext cx="8763120" cy="29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763120" cy="29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369040" y="124308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9040" y="158904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057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76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1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64832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3520" y="5334120"/>
            <a:ext cx="7848360" cy="834840"/>
            <a:chOff x="533520" y="5334120"/>
            <a:chExt cx="7848360" cy="834840"/>
          </a:xfrm>
        </p:grpSpPr>
        <p:graphicFrame>
          <p:nvGraphicFramePr>
            <p:cNvPr id="176" name=""/>
            <p:cNvGraphicFramePr/>
            <p:nvPr/>
          </p:nvGraphicFramePr>
          <p:xfrm>
            <a:off x="1523880" y="5334120"/>
            <a:ext cx="741600" cy="8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5334120"/>
                      <a:ext cx="74160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533520" y="5410080"/>
              <a:ext cx="784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c)log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3            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“…. to what power gives     ….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3623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639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38862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63920" y="464832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464832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4864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63920" y="5486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361960" y="4419720"/>
          <a:ext cx="3603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1960" y="4419720"/>
                    <a:ext cx="360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649920" y="5257800"/>
          <a:ext cx="74160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49920" y="5257800"/>
                    <a:ext cx="741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2:43:39Z</dcterms:created>
  <dc:creator>East Lothian Council</dc:creator>
  <dc:description/>
  <dc:language>en-US</dc:language>
  <cp:lastModifiedBy>East Lothian Council</cp:lastModifiedBy>
  <dcterms:modified xsi:type="dcterms:W3CDTF">2003-03-07T09:59:04Z</dcterms:modified>
  <cp:revision>43</cp:revision>
  <dc:subject/>
  <dc:title>No Slide Title</dc:title>
</cp:coreProperties>
</file>