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D2C5-54BB-4482-B222-516E50F34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63AE-D4EC-424E-8AB9-D38AF5D4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0A8A-E473-4A27-A3C7-37923FC38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BC62-A584-41BE-9066-96BF0F994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5E2B-B935-4E72-9A21-ABD5486A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5E3A-5838-4AD3-B7A4-F8E8BE0E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A974-4394-496C-9907-330646E4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D511-D673-4576-911A-9FD0FD11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E2BA-E0A1-4F42-82DD-F16FB32C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44CF-F62C-4495-A208-E12766C1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24D0-3FB6-49D5-B9E3-F81015CF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BFE6-C25C-4206-A050-9B13998D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9BD0-3671-4DAE-9F53-2F00913D2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1 revision Q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56908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the 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perpendicular bisector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a line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1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Unit 1 revision Q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1844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GB" sz="5400" spc="-1" strike="noStrike">
                <a:solidFill>
                  <a:srgbClr val="009999"/>
                </a:solidFill>
                <a:latin typeface="Comic Sans MS"/>
              </a:rPr>
              <a:t>gradient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 of the line and </a:t>
            </a:r>
            <a:r>
              <a:rPr b="0" lang="en-GB" sz="5400" spc="-1" strike="noStrike">
                <a:solidFill>
                  <a:srgbClr val="ff3300"/>
                </a:solidFill>
                <a:latin typeface="Comic Sans MS"/>
              </a:rPr>
              <a:t>a point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 on the li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076720" y="3068640"/>
            <a:ext cx="3607200" cy="2808360"/>
            <a:chOff x="5076720" y="3068640"/>
            <a:chExt cx="3607200" cy="2808360"/>
          </a:xfrm>
        </p:grpSpPr>
        <p:sp>
          <p:nvSpPr>
            <p:cNvPr id="89" name=""/>
            <p:cNvSpPr/>
            <p:nvPr/>
          </p:nvSpPr>
          <p:spPr>
            <a:xfrm>
              <a:off x="5076720" y="5516640"/>
              <a:ext cx="331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5435640" y="3429000"/>
              <a:ext cx="0" cy="244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70720" y="532620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20000" y="306864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148360" y="3645000"/>
              <a:ext cx="2592360" cy="12967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04000" y="4005360"/>
              <a:ext cx="14292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962040" y="3933720"/>
              <a:ext cx="68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(a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43640" y="436572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5940360" y="458136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403320" y="4245120"/>
              <a:ext cx="40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8680" y="45338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1 revision Q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t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eneral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f a stra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ine pa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hrough </a:t>
            </a:r>
            <a:r>
              <a:rPr b="0" lang="en-GB" sz="4400" spc="-1" strike="noStrike">
                <a:solidFill>
                  <a:srgbClr val="ff3300"/>
                </a:solidFill>
                <a:latin typeface="Comic Sans MS"/>
              </a:rPr>
              <a:t>(a,b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ith gradient </a:t>
            </a:r>
            <a:r>
              <a:rPr b="0" lang="en-GB" sz="4400" spc="-1" strike="noStrike">
                <a:solidFill>
                  <a:srgbClr val="ff3300"/>
                </a:solidFill>
                <a:latin typeface="Comic Sans MS"/>
              </a:rPr>
              <a:t>m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524480" y="1844640"/>
            <a:ext cx="4616640" cy="3025800"/>
            <a:chOff x="4524480" y="1844640"/>
            <a:chExt cx="4616640" cy="3025800"/>
          </a:xfrm>
        </p:grpSpPr>
        <p:sp>
          <p:nvSpPr>
            <p:cNvPr id="103" name=""/>
            <p:cNvSpPr/>
            <p:nvPr/>
          </p:nvSpPr>
          <p:spPr>
            <a:xfrm>
              <a:off x="4524480" y="4078080"/>
              <a:ext cx="424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5603760" y="1989000"/>
              <a:ext cx="0" cy="288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4884840" y="2277720"/>
              <a:ext cx="3168360" cy="1439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827920" y="395748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172480" y="184464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27760" y="2781360"/>
              <a:ext cx="73080" cy="71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914520" y="2662200"/>
              <a:ext cx="68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(a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1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Unit 1 revision Q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y – b = m(x – a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556000" y="2708280"/>
            <a:ext cx="4616640" cy="3025800"/>
            <a:chOff x="2556000" y="2708280"/>
            <a:chExt cx="4616640" cy="3025800"/>
          </a:xfrm>
        </p:grpSpPr>
        <p:sp>
          <p:nvSpPr>
            <p:cNvPr id="113" name=""/>
            <p:cNvSpPr/>
            <p:nvPr/>
          </p:nvSpPr>
          <p:spPr>
            <a:xfrm>
              <a:off x="2556000" y="4941720"/>
              <a:ext cx="424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3635280" y="2852640"/>
              <a:ext cx="0" cy="288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2916360" y="3141360"/>
              <a:ext cx="3168360" cy="1439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59440" y="482112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04000" y="270828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59280" y="3645000"/>
              <a:ext cx="73080" cy="71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946040" y="3525840"/>
              <a:ext cx="68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(a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1 revision Q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find the </a:t>
            </a:r>
            <a:r>
              <a:rPr b="0" lang="en-US" sz="6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gradient of a line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given the </a:t>
            </a:r>
            <a:r>
              <a:rPr b="0" lang="en-US" sz="6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angle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he line makes with the </a:t>
            </a:r>
            <a:r>
              <a:rPr b="0" lang="en-US" sz="6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positive direction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the </a:t>
            </a:r>
            <a:r>
              <a:rPr b="0" lang="en-US" sz="6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x-axis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1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Unit 1 revision Q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m = tan </a:t>
            </a:r>
            <a:r>
              <a:rPr b="0" lang="el-GR" sz="7200" spc="-1" strike="noStrike">
                <a:solidFill>
                  <a:srgbClr val="000000"/>
                </a:solidFill>
                <a:latin typeface="Comic Sans MS"/>
              </a:rPr>
              <a:t>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556000" y="2708280"/>
            <a:ext cx="4616640" cy="3025800"/>
            <a:chOff x="2556000" y="2708280"/>
            <a:chExt cx="4616640" cy="3025800"/>
          </a:xfrm>
        </p:grpSpPr>
        <p:sp>
          <p:nvSpPr>
            <p:cNvPr id="125" name=""/>
            <p:cNvSpPr/>
            <p:nvPr/>
          </p:nvSpPr>
          <p:spPr>
            <a:xfrm>
              <a:off x="2556000" y="4941720"/>
              <a:ext cx="424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3635280" y="2852640"/>
              <a:ext cx="0" cy="288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2916360" y="3068640"/>
              <a:ext cx="3168360" cy="14400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859440" y="482112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04000" y="270828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97800" y="392580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000000"/>
                  </a:solidFill>
                  <a:latin typeface="Comic Sans MS"/>
                </a:rPr>
                <a:t>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16360" y="4221000"/>
              <a:ext cx="3743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1 revision Q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the 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gradient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a 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horizontal line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1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Unit 1 revision Q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556000" y="2708280"/>
            <a:ext cx="4616640" cy="3025800"/>
            <a:chOff x="2556000" y="2708280"/>
            <a:chExt cx="4616640" cy="3025800"/>
          </a:xfrm>
        </p:grpSpPr>
        <p:sp>
          <p:nvSpPr>
            <p:cNvPr id="137" name=""/>
            <p:cNvSpPr/>
            <p:nvPr/>
          </p:nvSpPr>
          <p:spPr>
            <a:xfrm>
              <a:off x="2556000" y="4941720"/>
              <a:ext cx="424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3635280" y="2852640"/>
              <a:ext cx="0" cy="288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59440" y="482112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04000" y="270828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916360" y="3573360"/>
              <a:ext cx="37432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1 revision Q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at is an 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ltitude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of a triangle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1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Unit 1 revision Q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 line from a </a:t>
            </a:r>
            <a:r>
              <a:rPr b="0" lang="en-US" sz="6000" spc="-1" strike="noStrike">
                <a:solidFill>
                  <a:srgbClr val="ff3300"/>
                </a:solidFill>
                <a:latin typeface="Comic Sans MS"/>
              </a:rPr>
              <a:t>vertex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6000" spc="-1" strike="noStrike">
                <a:solidFill>
                  <a:srgbClr val="ff3300"/>
                </a:solidFill>
                <a:latin typeface="Comic Sans MS"/>
              </a:rPr>
              <a:t>perpendicular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to the opposite si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2427120" y="3850920"/>
            <a:ext cx="4923000" cy="2022840"/>
            <a:chOff x="2427120" y="3850920"/>
            <a:chExt cx="4923000" cy="2022840"/>
          </a:xfrm>
        </p:grpSpPr>
        <p:sp>
          <p:nvSpPr>
            <p:cNvPr id="147" name=""/>
            <p:cNvSpPr/>
            <p:nvPr/>
          </p:nvSpPr>
          <p:spPr>
            <a:xfrm>
              <a:off x="2427120" y="5856120"/>
              <a:ext cx="492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2427120" y="3850920"/>
              <a:ext cx="3235320" cy="20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80080" y="3868560"/>
              <a:ext cx="1670040" cy="200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80080" y="3868560"/>
              <a:ext cx="0" cy="1970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35640" y="5661000"/>
              <a:ext cx="0" cy="21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35640" y="566100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1 revision Q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</a:t>
            </a:r>
            <a:r>
              <a:rPr b="0" lang="en-US" sz="6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change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om</a:t>
            </a:r>
            <a:r>
              <a:rPr b="0" lang="en-US" sz="6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degrees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</a:t>
            </a:r>
            <a:r>
              <a:rPr b="0" lang="en-US" sz="6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radians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2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Unit 1 revision Q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1844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A line which </a:t>
            </a:r>
            <a:r>
              <a:rPr b="0" lang="en-GB" sz="5400" spc="-1" strike="noStrike">
                <a:solidFill>
                  <a:srgbClr val="009999"/>
                </a:solidFill>
                <a:latin typeface="Comic Sans MS"/>
              </a:rPr>
              <a:t>cuts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 the given line </a:t>
            </a:r>
            <a:r>
              <a:rPr b="0" lang="en-GB" sz="5400" spc="-1" strike="noStrike">
                <a:solidFill>
                  <a:srgbClr val="009999"/>
                </a:solidFill>
                <a:latin typeface="Comic Sans MS"/>
              </a:rPr>
              <a:t>in half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 at </a:t>
            </a:r>
            <a:r>
              <a:rPr b="0" lang="en-GB" sz="5400" spc="-1" strike="noStrike">
                <a:solidFill>
                  <a:srgbClr val="ff3300"/>
                </a:solidFill>
                <a:latin typeface="Comic Sans MS"/>
              </a:rPr>
              <a:t>90</a:t>
            </a:r>
            <a:r>
              <a:rPr b="0" lang="en-GB" sz="5400" spc="-1" strike="noStrike" baseline="50000">
                <a:solidFill>
                  <a:srgbClr val="ff3300"/>
                </a:solidFill>
                <a:latin typeface="Comic Sans MS"/>
              </a:rPr>
              <a:t>o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908000" y="3500280"/>
            <a:ext cx="5400720" cy="2592720"/>
            <a:chOff x="1908000" y="3500280"/>
            <a:chExt cx="5400720" cy="2592720"/>
          </a:xfrm>
        </p:grpSpPr>
        <p:sp>
          <p:nvSpPr>
            <p:cNvPr id="46" name=""/>
            <p:cNvSpPr/>
            <p:nvPr/>
          </p:nvSpPr>
          <p:spPr>
            <a:xfrm>
              <a:off x="1908000" y="4508640"/>
              <a:ext cx="540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72000" y="3500280"/>
              <a:ext cx="0" cy="25927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72000" y="4292640"/>
              <a:ext cx="216000" cy="216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3059280" y="4292640"/>
              <a:ext cx="217440" cy="3603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131640" y="4292640"/>
              <a:ext cx="217800" cy="3603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5724000" y="4365720"/>
              <a:ext cx="217800" cy="3603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5651640" y="4365720"/>
              <a:ext cx="217440" cy="3603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Unit 1 revision Q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Divide by 180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</a:t>
            </a:r>
            <a:r>
              <a:rPr b="0" lang="en-GB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multiply by </a:t>
            </a:r>
            <a:r>
              <a:rPr b="0" lang="el-GR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1 revision Q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56908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an equivalent expression fo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y = a</a:t>
            </a:r>
            <a:r>
              <a:rPr b="0" lang="en-US" sz="6600" spc="-1" strike="noStrike" baseline="30000">
                <a:solidFill>
                  <a:srgbClr val="009999"/>
                </a:solidFill>
                <a:latin typeface="Comic Sans MS"/>
                <a:ea typeface="Times New Roman"/>
              </a:rPr>
              <a:t>x</a:t>
            </a:r>
            <a:r>
              <a:rPr b="0" lang="en-US" sz="6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ing 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logs</a:t>
            </a:r>
            <a:r>
              <a:rPr b="0" lang="en-US" sz="6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2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Unit 1 revision Q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x = log</a:t>
            </a:r>
            <a:r>
              <a:rPr b="0" lang="en-GB" sz="5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y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1 revision Q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solve an equation lik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US" sz="6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3sinx+1 = 0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2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Unit 1 revision Q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(i)   rearrange to </a:t>
            </a:r>
            <a:r>
              <a:rPr b="0" lang="en-GB" sz="48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sinx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ii)  decide on 2 quadra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GB" sz="48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(iii) ignore any –ve and press </a:t>
            </a:r>
            <a:r>
              <a:rPr b="0" lang="en-GB" sz="48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GB" sz="48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   INV sin to get ang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	</a:t>
            </a:r>
            <a:r>
              <a:rPr b="0" lang="en-GB" sz="4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(iv)  work out two answ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1 revision Q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56908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draw the graph of 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3+f(x)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iven the graph of 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f(x)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2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Unit 1 revision Q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218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ve graph </a:t>
            </a:r>
            <a:r>
              <a:rPr b="0" lang="en-GB" sz="54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up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627280" y="2852640"/>
            <a:ext cx="3816360" cy="249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1 revision Q 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find the </a:t>
            </a:r>
            <a:r>
              <a:rPr b="0" lang="en-GB" sz="6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exact values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</a:t>
            </a:r>
            <a:r>
              <a:rPr b="0" lang="en-GB" sz="6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sin x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r </a:t>
            </a:r>
            <a:r>
              <a:rPr b="0" lang="en-GB" sz="6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tan x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iv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GB" sz="60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cos x = </a:t>
            </a:r>
            <a:r>
              <a:rPr b="0" lang="en-GB" sz="6000" spc="-1" strike="noStrike" u="sng">
                <a:solidFill>
                  <a:srgbClr val="ff66ff"/>
                </a:solidFill>
                <a:uFillTx/>
                <a:latin typeface="Comic Sans MS"/>
                <a:ea typeface="Times New Roman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GB" sz="60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2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Unit 1 revision Q 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(i)  draw tri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GB" sz="44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(ii)  use Pythagoras </a:t>
            </a:r>
            <a:r>
              <a:rPr b="0" lang="en-GB" sz="44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GB" sz="44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GB" sz="44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GB" sz="44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GB" sz="44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GB" sz="44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   to fill in missing 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iii) read values off triangle    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using </a:t>
            </a:r>
            <a:r>
              <a:rPr b="0" lang="en-GB" sz="44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SOH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H</a:t>
            </a:r>
            <a:r>
              <a:rPr b="0" lang="en-GB" sz="44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TO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796000" y="1484280"/>
            <a:ext cx="2879640" cy="1762200"/>
            <a:chOff x="5796000" y="1484280"/>
            <a:chExt cx="2879640" cy="1762200"/>
          </a:xfrm>
        </p:grpSpPr>
        <p:grpSp>
          <p:nvGrpSpPr>
            <p:cNvPr id="175" name=""/>
            <p:cNvGrpSpPr/>
            <p:nvPr/>
          </p:nvGrpSpPr>
          <p:grpSpPr>
            <a:xfrm>
              <a:off x="5796000" y="1484280"/>
              <a:ext cx="2879640" cy="1762200"/>
              <a:chOff x="5796000" y="1484280"/>
              <a:chExt cx="2879640" cy="1762200"/>
            </a:xfrm>
          </p:grpSpPr>
          <p:sp>
            <p:nvSpPr>
              <p:cNvPr id="176" name=""/>
              <p:cNvSpPr/>
              <p:nvPr/>
            </p:nvSpPr>
            <p:spPr>
              <a:xfrm>
                <a:off x="5796000" y="1484280"/>
                <a:ext cx="2879640" cy="1441440"/>
              </a:xfrm>
              <a:prstGeom prst="rtTriangl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707880" y="2878200"/>
                <a:ext cx="31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996240" y="183816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796000" y="2781360"/>
                <a:ext cx="142920" cy="144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7958520" y="256392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1 revision Q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How do you draw the graph of 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–f(x)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given the graph of 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f(x)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2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1 revision Q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56908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find the 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median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M of triangle ABC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1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Unit 1 revision Q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Reflect the graph in the x-ax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059280" y="3933720"/>
            <a:ext cx="3227400" cy="21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1 revision Q 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640" y="1599840"/>
            <a:ext cx="80647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ich two points     does the graph of 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y = log</a:t>
            </a:r>
            <a:r>
              <a:rPr b="0" lang="en-US" sz="6600" spc="-1" strike="noStrike" baseline="-25000">
                <a:solidFill>
                  <a:srgbClr val="ff3300"/>
                </a:solidFill>
                <a:latin typeface="Comic Sans MS"/>
                <a:ea typeface="Times New Roman"/>
              </a:rPr>
              <a:t>a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x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lways pass through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2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Unit 1 revision Q 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(1,0) and (a,1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268360" y="2708280"/>
            <a:ext cx="4378680" cy="29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1 revision Q 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f(x) = x</a:t>
            </a:r>
            <a:r>
              <a:rPr b="0" lang="en-US" sz="6600" spc="-1" strike="noStrike" baseline="30000">
                <a:solidFill>
                  <a:srgbClr val="ff3300"/>
                </a:solidFill>
                <a:latin typeface="Comic Sans MS"/>
              </a:rPr>
              <a:t>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n what 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f</a:t>
            </a:r>
            <a:r>
              <a:rPr b="0" lang="en-US" sz="6600" spc="-1" strike="noStrike" baseline="30000">
                <a:solidFill>
                  <a:srgbClr val="009999"/>
                </a:solidFill>
                <a:latin typeface="Comic Sans MS"/>
                <a:ea typeface="Times New Roman"/>
              </a:rPr>
              <a:t>’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(x)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3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Unit 1 revision Q 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nx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1 revision Q 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ou sh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at a </a:t>
            </a:r>
            <a:r>
              <a:rPr b="0" lang="en-US" sz="6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cur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always </a:t>
            </a:r>
            <a:r>
              <a:rPr b="0" lang="en-US" sz="6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decreasing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219640" y="1773360"/>
            <a:ext cx="3527640" cy="231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3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Unit 1 revision Q 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(i) differenti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(ii) show that f’(x) is 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  always negative 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  e.g. –(x+a)</a:t>
            </a:r>
            <a:r>
              <a:rPr b="0" lang="en-GB" sz="5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 ,  x = 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6781320" y="4343400"/>
            <a:ext cx="2286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1 revision Q 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56908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a curve, how do you find the 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stationary points and their nature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3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Unit 1 revision Q 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218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i)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fferenti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4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(ii)</a:t>
            </a:r>
            <a:r>
              <a:rPr b="0" lang="en-GB" sz="4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	</a:t>
            </a:r>
            <a:r>
              <a:rPr b="0" lang="en-GB" sz="4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let f’(x) =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48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(iii)</a:t>
            </a:r>
            <a:r>
              <a:rPr b="0" lang="en-GB" sz="48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GB" sz="48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solve to find </a:t>
            </a:r>
            <a:r>
              <a:rPr b="0" lang="en-GB" sz="48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GB" sz="48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GB" sz="48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GB" sz="48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GB" sz="48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stationary poi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iv)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nd y-coordina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	</a:t>
            </a:r>
            <a:r>
              <a:rPr b="0" lang="en-GB" sz="48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(v)</a:t>
            </a:r>
            <a:r>
              <a:rPr b="0" lang="en-GB" sz="48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GB" sz="48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draw nature tab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1 revision Q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know when a recurrence relation of the form </a:t>
            </a:r>
            <a:r>
              <a:rPr b="0" lang="en-GB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u</a:t>
            </a:r>
            <a:r>
              <a:rPr b="0" lang="en-GB" sz="6600" spc="-1" strike="noStrike" baseline="-25000">
                <a:solidFill>
                  <a:srgbClr val="009999"/>
                </a:solidFill>
                <a:latin typeface="Comic Sans MS"/>
                <a:ea typeface="Times New Roman"/>
              </a:rPr>
              <a:t>n+1</a:t>
            </a:r>
            <a:r>
              <a:rPr b="0" lang="en-GB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 = au</a:t>
            </a:r>
            <a:r>
              <a:rPr b="0" lang="en-GB" sz="6600" spc="-1" strike="noStrike" baseline="-25000">
                <a:solidFill>
                  <a:srgbClr val="009999"/>
                </a:solidFill>
                <a:latin typeface="Comic Sans MS"/>
                <a:ea typeface="Times New Roman"/>
              </a:rPr>
              <a:t>n</a:t>
            </a:r>
            <a:r>
              <a:rPr b="0" lang="en-GB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 + b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converges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4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Unit 1 revision Q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1844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(i)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ind the </a:t>
            </a:r>
            <a:r>
              <a:rPr b="0" lang="en-GB" sz="4400" spc="-1" strike="noStrike">
                <a:solidFill>
                  <a:srgbClr val="ff3300"/>
                </a:solidFill>
                <a:latin typeface="Comic Sans MS"/>
              </a:rPr>
              <a:t>mid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f BC.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ll it M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(ii)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ind the </a:t>
            </a:r>
            <a:r>
              <a:rPr b="0" lang="en-GB" sz="4400" spc="-1" strike="noStrike">
                <a:solidFill>
                  <a:srgbClr val="009999"/>
                </a:solidFill>
                <a:latin typeface="Comic Sans MS"/>
              </a:rPr>
              <a:t>gradient of 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(iii)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se </a:t>
            </a:r>
            <a:r>
              <a:rPr b="0" lang="en-GB" sz="4400" spc="-1" strike="noStrike">
                <a:solidFill>
                  <a:srgbClr val="ff3300"/>
                </a:solidFill>
                <a:latin typeface="Comic Sans MS"/>
              </a:rPr>
              <a:t>y-b = m(x-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4266360" y="3809880"/>
            <a:ext cx="3825000" cy="2817720"/>
            <a:chOff x="4266360" y="3809880"/>
            <a:chExt cx="3825000" cy="2817720"/>
          </a:xfrm>
        </p:grpSpPr>
        <p:sp>
          <p:nvSpPr>
            <p:cNvPr id="58" name=""/>
            <p:cNvSpPr/>
            <p:nvPr/>
          </p:nvSpPr>
          <p:spPr>
            <a:xfrm>
              <a:off x="4592520" y="6234120"/>
              <a:ext cx="316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4592520" y="4217400"/>
              <a:ext cx="2087640" cy="201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680160" y="4217760"/>
              <a:ext cx="1079280" cy="201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522480" y="380988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756560" y="6041880"/>
              <a:ext cx="33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66360" y="604188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6103440" y="4217760"/>
              <a:ext cx="576360" cy="2016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240160" y="6089400"/>
              <a:ext cx="0" cy="2890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11800" y="6089400"/>
              <a:ext cx="0" cy="2890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51440" y="6089400"/>
              <a:ext cx="0" cy="2890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824520" y="6089400"/>
              <a:ext cx="0" cy="2890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862600" y="6259320"/>
              <a:ext cx="3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Unit 1 revision Q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-1 &lt; a &lt; 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1 revision Q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56908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the 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gradient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a 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vertical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ine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1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Unit 1 revision Q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1844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undefin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851280" y="2228760"/>
            <a:ext cx="3916440" cy="3216240"/>
            <a:chOff x="3851280" y="2228760"/>
            <a:chExt cx="3916440" cy="3216240"/>
          </a:xfrm>
        </p:grpSpPr>
        <p:sp>
          <p:nvSpPr>
            <p:cNvPr id="75" name=""/>
            <p:cNvSpPr/>
            <p:nvPr/>
          </p:nvSpPr>
          <p:spPr>
            <a:xfrm>
              <a:off x="3851280" y="4941720"/>
              <a:ext cx="3673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4284720" y="2565000"/>
              <a:ext cx="0" cy="28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54520" y="474984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116600" y="22287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5724360" y="2637000"/>
              <a:ext cx="0" cy="2808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1 revision Q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56908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find where 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two lines intersect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1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Unit 1 revision Q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218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multaneous equa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1 revision Q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56908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two things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o you require in order to find the equation of a 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straight line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1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ill H Black</cp:lastModifiedBy>
  <dcterms:modified xsi:type="dcterms:W3CDTF">2007-10-13T20:50:45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