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21A-720B-48BA-B874-385EA003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863-59BB-474C-8480-DADA3702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01C-8A35-419E-976D-71A09E77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5D2-D714-41D2-9F3F-A55A4436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38A-4080-4B45-AF68-C6B2B508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DEB-8722-4D38-BC45-9B73CB4A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061-4518-4A38-BA65-99586F36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03D-114A-4DD8-80E3-CB98CE7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8B2-7976-4209-842A-C66E6F5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1CB-6EDA-4AB7-AC50-28DF577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F71-80B5-42C2-B2B1-11A7EC78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D16-69EE-48BB-816D-F939E77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338-2F23-41B3-B6AC-552F6134A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How do you prove that three 3-D points, A, B and C, are collinear 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 out leng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√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a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b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c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What do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GB" sz="6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qual 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37160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a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600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600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s the equation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=kx</a:t>
            </a:r>
            <a:r>
              <a:rPr b="0" lang="en-GB" sz="6600" spc="-1" strike="noStrike" baseline="46000">
                <a:solidFill>
                  <a:srgbClr val="009999"/>
                </a:solidFill>
                <a:latin typeface="Comic Sans MS"/>
                <a:ea typeface="Times New Roman"/>
              </a:rPr>
              <a:t>n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form of the equation of a straight line,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=nX+c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6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66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6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+ log</a:t>
            </a:r>
            <a:r>
              <a:rPr b="0" lang="en-GB" sz="6600" spc="-1" strike="noStrike">
                <a:solidFill>
                  <a:srgbClr val="009999"/>
                </a:solidFill>
                <a:latin typeface="Arial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how that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vector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erpendicula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how that </a:t>
            </a:r>
            <a:r>
              <a:rPr b="0" lang="en-GB" sz="60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GB" sz="6000" spc="-1" strike="noStrike" u="sng">
                <a:solidFill>
                  <a:srgbClr val="009999"/>
                </a:solidFill>
                <a:uFillTx/>
                <a:latin typeface="Arial"/>
              </a:rPr>
              <a:t>b</a:t>
            </a: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=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41080" y="3213000"/>
            <a:ext cx="2591280" cy="2620440"/>
            <a:chOff x="2341080" y="3213000"/>
            <a:chExt cx="2591280" cy="2620440"/>
          </a:xfrm>
        </p:grpSpPr>
        <p:grpSp>
          <p:nvGrpSpPr>
            <p:cNvPr id="92" name=""/>
            <p:cNvGrpSpPr/>
            <p:nvPr/>
          </p:nvGrpSpPr>
          <p:grpSpPr>
            <a:xfrm>
              <a:off x="2700360" y="3213000"/>
              <a:ext cx="142920" cy="2160720"/>
              <a:chOff x="2700360" y="3213000"/>
              <a:chExt cx="142920" cy="2160720"/>
            </a:xfrm>
          </p:grpSpPr>
          <p:sp>
            <p:nvSpPr>
              <p:cNvPr id="93" name=""/>
              <p:cNvSpPr/>
              <p:nvPr/>
            </p:nvSpPr>
            <p:spPr>
              <a:xfrm>
                <a:off x="2771640" y="3213000"/>
                <a:ext cx="0" cy="216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700360" y="4076640"/>
                <a:ext cx="7128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71640" y="4076640"/>
                <a:ext cx="7164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771640" y="5300640"/>
              <a:ext cx="2160720" cy="142920"/>
              <a:chOff x="2771640" y="5300640"/>
              <a:chExt cx="2160720" cy="14292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771640" y="5371920"/>
                <a:ext cx="216072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3779640" y="5300640"/>
                <a:ext cx="289080" cy="712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779640" y="5371920"/>
                <a:ext cx="289080" cy="716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341080" y="39574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5320" y="537372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 you get when you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fferentiate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s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-sin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</a:t>
            </a:r>
            <a:r>
              <a:rPr b="0" lang="en-GB" sz="6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 log</a:t>
            </a:r>
            <a:r>
              <a:rPr b="0" lang="en-GB" sz="6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al to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1868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ve that vector AB i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ultiple of vector B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B =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tate that B is common to both ve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3960" y="1628640"/>
            <a:ext cx="15570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GB" sz="6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82480" y="2133720"/>
            <a:ext cx="56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3623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name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gle between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in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lan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56000" y="4076640"/>
            <a:ext cx="4535280" cy="2016360"/>
            <a:chOff x="2556000" y="4076640"/>
            <a:chExt cx="4535280" cy="2016360"/>
          </a:xfrm>
        </p:grpSpPr>
        <p:sp>
          <p:nvSpPr>
            <p:cNvPr id="116" name=""/>
            <p:cNvSpPr/>
            <p:nvPr/>
          </p:nvSpPr>
          <p:spPr>
            <a:xfrm>
              <a:off x="2556000" y="4869000"/>
              <a:ext cx="4535280" cy="1224000"/>
            </a:xfrm>
            <a:prstGeom prst="parallelogram">
              <a:avLst>
                <a:gd name="adj" fmla="val 926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851280" y="4076640"/>
              <a:ext cx="1512720" cy="136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851280" y="5011560"/>
              <a:ext cx="151272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   start at end of line 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)  go to where line m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he plane (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go to the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on th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rectly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he start of the line 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v) Answer is     ABC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00720" y="2276640"/>
            <a:ext cx="4535280" cy="2232000"/>
            <a:chOff x="4500720" y="2276640"/>
            <a:chExt cx="4535280" cy="2232000"/>
          </a:xfrm>
        </p:grpSpPr>
        <p:sp>
          <p:nvSpPr>
            <p:cNvPr id="122" name=""/>
            <p:cNvSpPr/>
            <p:nvPr/>
          </p:nvSpPr>
          <p:spPr>
            <a:xfrm>
              <a:off x="4500720" y="3284640"/>
              <a:ext cx="4535280" cy="1224000"/>
            </a:xfrm>
            <a:prstGeom prst="parallelogram">
              <a:avLst>
                <a:gd name="adj" fmla="val 926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8720" y="2492280"/>
              <a:ext cx="0" cy="935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1120" y="227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4440" y="36432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8000" y="328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20000" y="3284640"/>
              <a:ext cx="288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0000" y="33559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7440" y="3622680"/>
              <a:ext cx="139680" cy="122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0" y="0"/>
                  </a:moveTo>
                  <a:cubicBezTo>
                    <a:pt x="71" y="12"/>
                    <a:pt x="88" y="2"/>
                    <a:pt x="88" y="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3600" y="3639960"/>
              <a:ext cx="270000" cy="163800"/>
            </a:xfrm>
            <a:custGeom>
              <a:avLst/>
              <a:gdLst/>
              <a:ahLst/>
              <a:rect l="l" t="t" r="r" b="b"/>
              <a:pathLst>
                <a:path w="170" h="103">
                  <a:moveTo>
                    <a:pt x="89" y="0"/>
                  </a:moveTo>
                  <a:cubicBezTo>
                    <a:pt x="55" y="32"/>
                    <a:pt x="37" y="31"/>
                    <a:pt x="22" y="77"/>
                  </a:cubicBezTo>
                  <a:cubicBezTo>
                    <a:pt x="18" y="90"/>
                    <a:pt x="35" y="53"/>
                    <a:pt x="44" y="44"/>
                  </a:cubicBezTo>
                  <a:cubicBezTo>
                    <a:pt x="54" y="35"/>
                    <a:pt x="65" y="22"/>
                    <a:pt x="78" y="22"/>
                  </a:cubicBezTo>
                  <a:cubicBezTo>
                    <a:pt x="89" y="22"/>
                    <a:pt x="62" y="36"/>
                    <a:pt x="55" y="44"/>
                  </a:cubicBezTo>
                  <a:cubicBezTo>
                    <a:pt x="47" y="54"/>
                    <a:pt x="27" y="65"/>
                    <a:pt x="33" y="77"/>
                  </a:cubicBezTo>
                  <a:cubicBezTo>
                    <a:pt x="38" y="87"/>
                    <a:pt x="55" y="70"/>
                    <a:pt x="66" y="66"/>
                  </a:cubicBezTo>
                  <a:cubicBezTo>
                    <a:pt x="70" y="62"/>
                    <a:pt x="119" y="19"/>
                    <a:pt x="111" y="11"/>
                  </a:cubicBezTo>
                  <a:cubicBezTo>
                    <a:pt x="105" y="5"/>
                    <a:pt x="59" y="51"/>
                    <a:pt x="55" y="55"/>
                  </a:cubicBezTo>
                  <a:cubicBezTo>
                    <a:pt x="63" y="62"/>
                    <a:pt x="67" y="77"/>
                    <a:pt x="78" y="77"/>
                  </a:cubicBezTo>
                  <a:cubicBezTo>
                    <a:pt x="102" y="77"/>
                    <a:pt x="123" y="37"/>
                    <a:pt x="133" y="22"/>
                  </a:cubicBezTo>
                  <a:cubicBezTo>
                    <a:pt x="133" y="22"/>
                    <a:pt x="170" y="103"/>
                    <a:pt x="111" y="44"/>
                  </a:cubicBezTo>
                  <a:cubicBezTo>
                    <a:pt x="103" y="36"/>
                    <a:pt x="104" y="22"/>
                    <a:pt x="100" y="11"/>
                  </a:cubicBezTo>
                  <a:cubicBezTo>
                    <a:pt x="89" y="15"/>
                    <a:pt x="75" y="14"/>
                    <a:pt x="66" y="22"/>
                  </a:cubicBezTo>
                  <a:cubicBezTo>
                    <a:pt x="40" y="47"/>
                    <a:pt x="65" y="89"/>
                    <a:pt x="0" y="8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91040" y="3639960"/>
              <a:ext cx="363600" cy="158760"/>
            </a:xfrm>
            <a:custGeom>
              <a:avLst/>
              <a:gdLst/>
              <a:ahLst/>
              <a:rect l="l" t="t" r="r" b="b"/>
              <a:pathLst>
                <a:path w="229" h="100">
                  <a:moveTo>
                    <a:pt x="188" y="44"/>
                  </a:moveTo>
                  <a:cubicBezTo>
                    <a:pt x="184" y="33"/>
                    <a:pt x="186" y="18"/>
                    <a:pt x="177" y="11"/>
                  </a:cubicBezTo>
                  <a:cubicBezTo>
                    <a:pt x="165" y="2"/>
                    <a:pt x="148" y="0"/>
                    <a:pt x="133" y="0"/>
                  </a:cubicBezTo>
                  <a:cubicBezTo>
                    <a:pt x="121" y="0"/>
                    <a:pt x="155" y="7"/>
                    <a:pt x="166" y="11"/>
                  </a:cubicBezTo>
                  <a:cubicBezTo>
                    <a:pt x="166" y="11"/>
                    <a:pt x="144" y="4"/>
                    <a:pt x="133" y="0"/>
                  </a:cubicBezTo>
                  <a:cubicBezTo>
                    <a:pt x="121" y="37"/>
                    <a:pt x="104" y="60"/>
                    <a:pt x="66" y="77"/>
                  </a:cubicBezTo>
                  <a:cubicBezTo>
                    <a:pt x="45" y="87"/>
                    <a:pt x="0" y="100"/>
                    <a:pt x="0" y="100"/>
                  </a:cubicBezTo>
                  <a:cubicBezTo>
                    <a:pt x="26" y="72"/>
                    <a:pt x="56" y="65"/>
                    <a:pt x="88" y="44"/>
                  </a:cubicBezTo>
                  <a:cubicBezTo>
                    <a:pt x="92" y="33"/>
                    <a:pt x="88" y="15"/>
                    <a:pt x="99" y="11"/>
                  </a:cubicBezTo>
                  <a:cubicBezTo>
                    <a:pt x="119" y="3"/>
                    <a:pt x="229" y="67"/>
                    <a:pt x="144" y="11"/>
                  </a:cubicBezTo>
                  <a:cubicBezTo>
                    <a:pt x="170" y="50"/>
                    <a:pt x="153" y="44"/>
                    <a:pt x="188" y="44"/>
                  </a:cubicBezTo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796000" y="2492280"/>
              <a:ext cx="1512720" cy="136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796000" y="3427200"/>
              <a:ext cx="1512720" cy="43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H="1">
            <a:off x="3809520" y="5867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position vecto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vector which 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</a:rPr>
              <a:t>start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</a:rPr>
              <a:t>a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6000" spc="-1" strike="noStrike">
                <a:solidFill>
                  <a:srgbClr val="ff66ff"/>
                </a:solidFill>
                <a:latin typeface="Arial"/>
              </a:rPr>
              <a:t>orig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 you get when you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fferentiat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in x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s 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tegrate cos ax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6000" spc="-1" strike="noStrike" baseline="-12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sin ax </a:t>
            </a:r>
            <a:r>
              <a:rPr b="0" lang="en-GB" sz="6000" spc="-1" strike="noStrike">
                <a:solidFill>
                  <a:srgbClr val="ff3300"/>
                </a:solidFill>
                <a:latin typeface="Arial"/>
              </a:rPr>
              <a:t>+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 you get when you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fferenti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x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add or subtract vectors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628640"/>
            <a:ext cx="83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-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in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</a:rPr>
              <a:t>a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would you differentiate a function l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sin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dy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6600" spc="-1" strike="noStrike" baseline="-25000">
                <a:solidFill>
                  <a:srgbClr val="000000"/>
                </a:solidFill>
                <a:latin typeface="Arial"/>
              </a:rPr>
              <a:t>dx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66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en-GB" sz="66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log</a:t>
            </a:r>
            <a:r>
              <a:rPr b="0" lang="en-US" sz="6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qual to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 and 1.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og</a:t>
            </a:r>
            <a:r>
              <a:rPr b="0" lang="en-US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al to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 and 1.2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express acosx+bsinx+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for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cos(x- </a:t>
            </a:r>
            <a:r>
              <a:rPr b="0" lang="el-GR" sz="6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4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(i) expand brackets </a:t>
            </a: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Arial"/>
              </a:rPr>
              <a:t> and equate lik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Arial"/>
              </a:rPr>
              <a:t>(ii) find k =</a:t>
            </a:r>
            <a:r>
              <a:rPr b="0" lang="en-GB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√</a:t>
            </a:r>
            <a:r>
              <a:rPr b="0" lang="en-GB" sz="4400" spc="-1" strike="noStrike">
                <a:solidFill>
                  <a:srgbClr val="009999"/>
                </a:solidFill>
                <a:latin typeface="Arial"/>
              </a:rPr>
              <a:t>(a</a:t>
            </a:r>
            <a:r>
              <a:rPr b="0" lang="en-GB" sz="4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9999"/>
                </a:solidFill>
                <a:latin typeface="Arial"/>
              </a:rPr>
              <a:t>+b</a:t>
            </a:r>
            <a:r>
              <a:rPr b="0" lang="en-GB" sz="4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(iii) identify quadrant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s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(iv) find </a:t>
            </a:r>
            <a:r>
              <a:rPr b="0" lang="el-GR" sz="4400" spc="-1" strike="noStrike">
                <a:solidFill>
                  <a:srgbClr val="ff3300"/>
                </a:solidFill>
                <a:latin typeface="Arial"/>
              </a:rPr>
              <a:t>α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using tan</a:t>
            </a:r>
            <a:r>
              <a:rPr b="0" lang="el-GR" sz="4400" spc="-1" strike="noStrike">
                <a:solidFill>
                  <a:srgbClr val="ff3300"/>
                </a:solidFill>
                <a:latin typeface="Arial"/>
              </a:rPr>
              <a:t>α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Arial"/>
              </a:rPr>
              <a:t>sin</a:t>
            </a:r>
            <a:r>
              <a:rPr b="0" lang="el-GR" sz="4400" spc="-1" strike="noStrike" u="sng">
                <a:solidFill>
                  <a:srgbClr val="ff3300"/>
                </a:solidFill>
                <a:uFillTx/>
                <a:latin typeface="Arial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cos</a:t>
            </a:r>
            <a:r>
              <a:rPr b="0" lang="el-GR" sz="4400" spc="-1" strike="noStrike">
                <a:solidFill>
                  <a:srgbClr val="ff3300"/>
                </a:solidFill>
                <a:latin typeface="Arial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1916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637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70240" y="184464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87960" y="2637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93720" y="1844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04440" y="263700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olve an equation of the form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x + 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b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x +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0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d or subtract matching compon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hange acosx+bsinx into Rcos(x- </a:t>
            </a:r>
            <a:r>
              <a:rPr b="0" lang="en-GB" sz="6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earrange and sol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e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hre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rules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ogs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3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(i) log</a:t>
            </a:r>
            <a:r>
              <a:rPr b="0" lang="en-GB" sz="5400" spc="-1" strike="noStrike" baseline="-25000">
                <a:solidFill>
                  <a:srgbClr val="009999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xy = log</a:t>
            </a:r>
            <a:r>
              <a:rPr b="0" lang="en-GB" sz="5400" spc="-1" strike="noStrike" baseline="-25000">
                <a:solidFill>
                  <a:srgbClr val="009999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x + log</a:t>
            </a:r>
            <a:r>
              <a:rPr b="0" lang="en-GB" sz="5400" spc="-1" strike="noStrike" baseline="-25000">
                <a:solidFill>
                  <a:srgbClr val="009999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34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Arial"/>
              </a:rPr>
              <a:t>(ii) log</a:t>
            </a:r>
            <a:r>
              <a:rPr b="0" lang="en-GB" sz="5400" spc="-1" strike="noStrike" baseline="-25000">
                <a:solidFill>
                  <a:srgbClr val="ff66ff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66ff"/>
                </a:solidFill>
                <a:latin typeface="Arial"/>
              </a:rPr>
              <a:t>     = log</a:t>
            </a:r>
            <a:r>
              <a:rPr b="0" lang="en-GB" sz="5400" spc="-1" strike="noStrike" baseline="-25000">
                <a:solidFill>
                  <a:srgbClr val="ff66ff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66ff"/>
                </a:solidFill>
                <a:latin typeface="Arial"/>
              </a:rPr>
              <a:t>x – log</a:t>
            </a:r>
            <a:r>
              <a:rPr b="0" lang="en-GB" sz="5400" spc="-1" strike="noStrike" baseline="-25000">
                <a:solidFill>
                  <a:srgbClr val="ff66ff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66ff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Arial"/>
              </a:rPr>
              <a:t>(iii) log</a:t>
            </a:r>
            <a:r>
              <a:rPr b="0" lang="en-GB" sz="5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GB" sz="5400" spc="-1" strike="noStrike" baseline="50000">
                <a:solidFill>
                  <a:srgbClr val="ff3300"/>
                </a:solidFill>
                <a:latin typeface="Arial"/>
              </a:rPr>
              <a:t>n</a:t>
            </a:r>
            <a:r>
              <a:rPr b="0" lang="en-GB" sz="5400" spc="-1" strike="noStrike">
                <a:solidFill>
                  <a:srgbClr val="ff3300"/>
                </a:solidFill>
                <a:latin typeface="Arial"/>
              </a:rPr>
              <a:t> = nlog</a:t>
            </a:r>
            <a:r>
              <a:rPr b="0" lang="en-GB" sz="5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1840" y="143352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6320" y="2781360"/>
            <a:ext cx="5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8680" y="3500280"/>
            <a:ext cx="5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3645000"/>
            <a:ext cx="64800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es ksin(x-a) expand out t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3 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sinxcosa-kcosxs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what is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157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3520" y="1413000"/>
            <a:ext cx="60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1557360"/>
            <a:ext cx="336240" cy="2448000"/>
          </a:xfrm>
          <a:custGeom>
            <a:avLst/>
            <a:gdLst/>
            <a:ahLst/>
            <a:rect l="l" t="t" r="r" b="b"/>
            <a:pathLst>
              <a:path w="212" h="1542">
                <a:moveTo>
                  <a:pt x="166" y="0"/>
                </a:moveTo>
                <a:cubicBezTo>
                  <a:pt x="109" y="3"/>
                  <a:pt x="53" y="7"/>
                  <a:pt x="30" y="226"/>
                </a:cubicBezTo>
                <a:cubicBezTo>
                  <a:pt x="7" y="445"/>
                  <a:pt x="0" y="1096"/>
                  <a:pt x="30" y="1315"/>
                </a:cubicBezTo>
                <a:cubicBezTo>
                  <a:pt x="60" y="1534"/>
                  <a:pt x="182" y="1504"/>
                  <a:pt x="212" y="154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94920" y="1557360"/>
            <a:ext cx="360360" cy="2448000"/>
          </a:xfrm>
          <a:custGeom>
            <a:avLst/>
            <a:gdLst/>
            <a:ahLst/>
            <a:rect l="l" t="t" r="r" b="b"/>
            <a:pathLst>
              <a:path w="212" h="1542">
                <a:moveTo>
                  <a:pt x="166" y="0"/>
                </a:moveTo>
                <a:cubicBezTo>
                  <a:pt x="109" y="3"/>
                  <a:pt x="53" y="7"/>
                  <a:pt x="30" y="226"/>
                </a:cubicBezTo>
                <a:cubicBezTo>
                  <a:pt x="7" y="445"/>
                  <a:pt x="0" y="1096"/>
                  <a:pt x="30" y="1315"/>
                </a:cubicBezTo>
                <a:cubicBezTo>
                  <a:pt x="60" y="1534"/>
                  <a:pt x="182" y="1504"/>
                  <a:pt x="212" y="154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.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</cp:lastModifiedBy>
  <dcterms:modified xsi:type="dcterms:W3CDTF">2007-10-22T07:33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