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6D03-3DB7-4D33-8BAA-8B176B14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E9BE-89A0-4418-BFB7-9CAB663D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D097-C6D9-4226-96BD-AFE16FD1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E148-B940-45E9-818C-3290094D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5178-D185-4FC5-A722-52F6E0BA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CDBD-52D3-4FE2-87DE-0F4579FD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3C3F-7799-4647-8345-B164313D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381E-9A6D-4F67-9AD2-DF286578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B90F-5EAC-4789-89CD-3F157669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19D-26E2-4E29-968F-F6A36388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3BF1-8759-44DF-A3DE-4717B4AC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36BB-0284-4029-AB62-E62F63B3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EC3D-19E7-4AF6-8BEA-8A2306A00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 the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equation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a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perpendicular bisector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a line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1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-2 and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draw the graph of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2f(x)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iven the graph of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f(x)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Double t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y-coordinat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27280" y="4005360"/>
            <a:ext cx="3384720" cy="22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 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ct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alue o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sin (</a:t>
            </a:r>
            <a:r>
              <a:rPr b="0" lang="el-GR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α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-</a:t>
            </a:r>
            <a:r>
              <a:rPr b="0" lang="el-GR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β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)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n that </a:t>
            </a:r>
            <a:r>
              <a:rPr b="0" lang="en-GB" sz="5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in</a:t>
            </a:r>
            <a:r>
              <a:rPr b="0" lang="el-GR" sz="5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α</a:t>
            </a:r>
            <a:r>
              <a:rPr b="0" lang="en-GB" sz="5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=</a:t>
            </a:r>
            <a:r>
              <a:rPr b="0" lang="en-GB" sz="5400" spc="-1" strike="noStrike" baseline="30000">
                <a:solidFill>
                  <a:srgbClr val="ff3300"/>
                </a:solidFill>
                <a:latin typeface="Comic Sans MS"/>
                <a:ea typeface="Times New Roman"/>
              </a:rPr>
              <a:t>4</a:t>
            </a:r>
            <a:r>
              <a:rPr b="0" lang="en-GB" sz="5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</a:t>
            </a:r>
            <a:r>
              <a:rPr b="0" lang="en-GB" sz="54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5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cos</a:t>
            </a:r>
            <a:r>
              <a:rPr b="0" lang="el-GR" sz="5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β</a:t>
            </a:r>
            <a:r>
              <a:rPr b="0" lang="en-GB" sz="5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 = </a:t>
            </a:r>
            <a:r>
              <a:rPr b="0" lang="en-GB" sz="5400" spc="-1" strike="noStrike" baseline="30000">
                <a:solidFill>
                  <a:srgbClr val="ff66ff"/>
                </a:solidFill>
                <a:latin typeface="Comic Sans MS"/>
                <a:ea typeface="Times New Roman"/>
              </a:rPr>
              <a:t>12</a:t>
            </a:r>
            <a:r>
              <a:rPr b="0" lang="en-GB" sz="5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/</a:t>
            </a:r>
            <a:r>
              <a:rPr b="0" lang="en-GB" sz="5400" spc="-1" strike="noStrike" baseline="-25000">
                <a:solidFill>
                  <a:srgbClr val="ff66ff"/>
                </a:solidFill>
                <a:latin typeface="Comic Sans MS"/>
                <a:ea typeface="Times New Roman"/>
              </a:rPr>
              <a:t>13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3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i)  draw tri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 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for </a:t>
            </a:r>
            <a:r>
              <a:rPr b="0" lang="el-GR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α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and </a:t>
            </a:r>
            <a:r>
              <a:rPr b="0" lang="el-GR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i)  work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</a:t>
            </a:r>
            <a:r>
              <a:rPr b="0" lang="el-G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α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nd sin</a:t>
            </a:r>
            <a:r>
              <a:rPr b="0" lang="el-G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(iii) exp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  </a:t>
            </a: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formula for sin(</a:t>
            </a:r>
            <a:r>
              <a:rPr b="0" lang="el-GR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α</a:t>
            </a: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-</a:t>
            </a:r>
            <a:r>
              <a:rPr b="0" lang="el-GR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β</a:t>
            </a: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(iv) insert exact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787000" y="1484280"/>
            <a:ext cx="2118240" cy="1881360"/>
            <a:chOff x="5787000" y="1484280"/>
            <a:chExt cx="2118240" cy="1881360"/>
          </a:xfrm>
        </p:grpSpPr>
        <p:sp>
          <p:nvSpPr>
            <p:cNvPr id="108" name=""/>
            <p:cNvSpPr/>
            <p:nvPr/>
          </p:nvSpPr>
          <p:spPr>
            <a:xfrm>
              <a:off x="5817960" y="1484280"/>
              <a:ext cx="2087280" cy="151308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87000" y="1549440"/>
              <a:ext cx="32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Comic Sans MS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87360" y="2997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82480" y="19814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17960" y="2853000"/>
              <a:ext cx="14256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867280" y="3500280"/>
            <a:ext cx="2879640" cy="1762200"/>
            <a:chOff x="5867280" y="3500280"/>
            <a:chExt cx="2879640" cy="1762200"/>
          </a:xfrm>
        </p:grpSpPr>
        <p:grpSp>
          <p:nvGrpSpPr>
            <p:cNvPr id="114" name=""/>
            <p:cNvGrpSpPr/>
            <p:nvPr/>
          </p:nvGrpSpPr>
          <p:grpSpPr>
            <a:xfrm>
              <a:off x="5867280" y="3500280"/>
              <a:ext cx="2879640" cy="1762200"/>
              <a:chOff x="5867280" y="3500280"/>
              <a:chExt cx="2879640" cy="1762200"/>
            </a:xfrm>
          </p:grpSpPr>
          <p:sp>
            <p:nvSpPr>
              <p:cNvPr id="115" name=""/>
              <p:cNvSpPr/>
              <p:nvPr/>
            </p:nvSpPr>
            <p:spPr>
              <a:xfrm>
                <a:off x="5867280" y="3500280"/>
                <a:ext cx="2879640" cy="1441440"/>
              </a:xfrm>
              <a:prstGeom prst="rtTriangl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793560" y="489420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080840" y="38541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867280" y="4797360"/>
                <a:ext cx="142920" cy="144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8020800" y="4579560"/>
              <a:ext cx="33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Comic Sans MS"/>
                </a:rPr>
                <a:t>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turning point o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y=2(x-a)</a:t>
            </a:r>
            <a:r>
              <a:rPr b="0" lang="en-US" sz="6600" spc="-1" strike="noStrike" baseline="30000">
                <a:solidFill>
                  <a:srgbClr val="009999"/>
                </a:solidFill>
                <a:latin typeface="Comic Sans MS"/>
                <a:ea typeface="Times New Roman"/>
              </a:rPr>
              <a:t>2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+b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Max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r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min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1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)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,b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minimu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564000" y="3645000"/>
            <a:ext cx="3240000" cy="2158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162040" y="4869000"/>
            <a:ext cx="6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mic Sans MS"/>
              </a:rPr>
              <a:t>(a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draw the graph of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f(-x)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iven the graph of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f(x)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Reflect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graph in the 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y-ax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3456000" cy="22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draw a graph of the for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GB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y = cos(x+a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 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y = sin(x+a)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(i)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ind the midpoint of the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</a:rPr>
              <a:t>(ii)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</a:rPr>
              <a:t>find the gradient of the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(iii)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find the gradient 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perpendicular to the given 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lin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</a:rPr>
              <a:t>(iv)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</a:rPr>
              <a:t>Use midpoint and gradient in 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</a:rPr>
              <a:t>y-b = m(x-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04920" y="4754880"/>
            <a:ext cx="2851920" cy="1492920"/>
            <a:chOff x="4804920" y="4754880"/>
            <a:chExt cx="2851920" cy="1492920"/>
          </a:xfrm>
        </p:grpSpPr>
        <p:grpSp>
          <p:nvGrpSpPr>
            <p:cNvPr id="46" name=""/>
            <p:cNvGrpSpPr/>
            <p:nvPr/>
          </p:nvGrpSpPr>
          <p:grpSpPr>
            <a:xfrm>
              <a:off x="4804920" y="4754880"/>
              <a:ext cx="2851920" cy="1492920"/>
              <a:chOff x="4804920" y="4754880"/>
              <a:chExt cx="2851920" cy="149292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4804920" y="4754880"/>
                <a:ext cx="2851920" cy="1492920"/>
                <a:chOff x="4804920" y="4754880"/>
                <a:chExt cx="2851920" cy="1492920"/>
              </a:xfrm>
            </p:grpSpPr>
            <p:sp>
              <p:nvSpPr>
                <p:cNvPr id="48" name=""/>
                <p:cNvSpPr/>
                <p:nvPr/>
              </p:nvSpPr>
              <p:spPr>
                <a:xfrm flipV="1">
                  <a:off x="4804920" y="4754880"/>
                  <a:ext cx="2851920" cy="1381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5967000" y="4950360"/>
                  <a:ext cx="628560" cy="12974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rot="20049600">
                  <a:off x="6178320" y="5312880"/>
                  <a:ext cx="126720" cy="119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 flipH="1">
                  <a:off x="5447520" y="5677920"/>
                  <a:ext cx="27720" cy="2358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 flipH="1">
                  <a:off x="5485680" y="5659560"/>
                  <a:ext cx="27720" cy="2354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H="1">
                  <a:off x="6872760" y="5032800"/>
                  <a:ext cx="27360" cy="2358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 flipH="1">
                  <a:off x="6834240" y="5051520"/>
                  <a:ext cx="27360" cy="2358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6222960" y="5326200"/>
                <a:ext cx="3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6438240" y="5326200"/>
              <a:ext cx="68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(a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Move the graph of </a:t>
            </a:r>
            <a:r>
              <a:rPr b="0" lang="en-GB" sz="6000" spc="-1" strike="noStrike">
                <a:solidFill>
                  <a:srgbClr val="ff3300"/>
                </a:solidFill>
                <a:latin typeface="Arial"/>
              </a:rPr>
              <a:t>y=cosx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GB" sz="6000" spc="-1" strike="noStrike">
                <a:solidFill>
                  <a:srgbClr val="009999"/>
                </a:solidFill>
                <a:latin typeface="Arial"/>
              </a:rPr>
              <a:t>y=sin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 units to the 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987640" y="4365720"/>
            <a:ext cx="273672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Name the steps you take in order to differentiate functions li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f(x) = </a:t>
            </a:r>
            <a:r>
              <a:rPr b="0" lang="en-US" sz="6000" spc="-1" strike="noStrike" u="sng" baseline="30000">
                <a:solidFill>
                  <a:srgbClr val="ff3300"/>
                </a:solidFill>
                <a:uFillTx/>
                <a:latin typeface="Comic Sans MS"/>
                <a:ea typeface="Times New Roman"/>
              </a:rPr>
              <a:t>x</a:t>
            </a:r>
            <a:r>
              <a:rPr b="0" lang="en-US" sz="4000" spc="-1" strike="noStrike" u="sng" baseline="68000">
                <a:solidFill>
                  <a:srgbClr val="ff3300"/>
                </a:solidFill>
                <a:uFillTx/>
                <a:latin typeface="Comic Sans MS"/>
                <a:ea typeface="Times New Roman"/>
              </a:rPr>
              <a:t>2</a:t>
            </a:r>
            <a:r>
              <a:rPr b="0" lang="en-US" sz="6000" spc="-1" strike="noStrike" u="sng" baseline="30000">
                <a:solidFill>
                  <a:srgbClr val="ff3300"/>
                </a:solidFill>
                <a:uFillTx/>
                <a:latin typeface="Comic Sans MS"/>
                <a:ea typeface="Times New Roman"/>
              </a:rPr>
              <a:t>+ 3x +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42200" y="5445000"/>
            <a:ext cx="6958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√</a:t>
            </a:r>
            <a:r>
              <a:rPr b="0" lang="en-US" sz="60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3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i)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ange roots to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ow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9999"/>
                </a:solidFill>
                <a:latin typeface="Comic Sans MS"/>
              </a:rPr>
              <a:t>(ii) </a:t>
            </a:r>
            <a:r>
              <a:rPr b="0" lang="en-US" sz="4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9999"/>
                </a:solidFill>
                <a:latin typeface="Comic Sans MS"/>
              </a:rPr>
              <a:t>split up into 3 </a:t>
            </a:r>
            <a:r>
              <a:rPr b="0" lang="en-US" sz="4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9999"/>
                </a:solidFill>
                <a:latin typeface="Comic Sans MS"/>
              </a:rPr>
              <a:t>fra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66ff"/>
                </a:solidFill>
                <a:latin typeface="Comic Sans MS"/>
              </a:rPr>
              <a:t>(iii) </a:t>
            </a:r>
            <a:r>
              <a:rPr b="0" lang="en-US" sz="4800" spc="-1" strike="noStrike">
                <a:solidFill>
                  <a:srgbClr val="ff66ff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66ff"/>
                </a:solidFill>
                <a:latin typeface="Comic Sans MS"/>
              </a:rPr>
              <a:t>simplify each te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(iv) </a:t>
            </a: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differenti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</a:rPr>
              <a:t>f(t)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is the distance travelled in a certain time t seconds, then what does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</a:rPr>
              <a:t>f</a:t>
            </a:r>
            <a:r>
              <a:rPr b="0" lang="en-US" sz="6000" spc="-1" strike="noStrike" baseline="30000">
                <a:solidFill>
                  <a:srgbClr val="ff3300"/>
                </a:solidFill>
                <a:latin typeface="Comic Sans MS"/>
              </a:rPr>
              <a:t>’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</a:rPr>
              <a:t>(t)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represent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3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Speed (velocity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n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f’(x)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a </a:t>
            </a:r>
            <a:r>
              <a:rPr b="0" lang="en-US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point on the curv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how do you fi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f(x)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2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(i)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integr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i)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bstitute in a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n point to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work out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al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f 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do you know about the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gradients of two parallel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ine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1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MS Mincho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MS Mincho"/>
              </a:rPr>
              <a:t>They are the same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MS Mincho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124000" y="2997360"/>
            <a:ext cx="2448000" cy="2520720"/>
            <a:chOff x="2124000" y="2997360"/>
            <a:chExt cx="2448000" cy="2520720"/>
          </a:xfrm>
        </p:grpSpPr>
        <p:sp>
          <p:nvSpPr>
            <p:cNvPr id="154" name=""/>
            <p:cNvSpPr/>
            <p:nvPr/>
          </p:nvSpPr>
          <p:spPr>
            <a:xfrm flipV="1">
              <a:off x="2124000" y="2997360"/>
              <a:ext cx="2448000" cy="25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564000" y="3933720"/>
              <a:ext cx="712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276720" y="3933720"/>
              <a:ext cx="35856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340000" y="3716280"/>
            <a:ext cx="2448000" cy="2520720"/>
            <a:chOff x="2340000" y="3716280"/>
            <a:chExt cx="2448000" cy="2520720"/>
          </a:xfrm>
        </p:grpSpPr>
        <p:sp>
          <p:nvSpPr>
            <p:cNvPr id="158" name=""/>
            <p:cNvSpPr/>
            <p:nvPr/>
          </p:nvSpPr>
          <p:spPr>
            <a:xfrm flipV="1">
              <a:off x="2340000" y="3716280"/>
              <a:ext cx="2448000" cy="25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780000" y="4652640"/>
              <a:ext cx="712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492720" y="4652640"/>
              <a:ext cx="35856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 the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equation of a tangent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o a curve at the point when 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x =  a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1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 the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midpoint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of a lin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joining two points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1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(i)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Differenti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(ii)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fit </a:t>
            </a:r>
            <a:r>
              <a:rPr b="0" lang="en-GB" sz="4800" spc="-1" strike="noStrike">
                <a:solidFill>
                  <a:srgbClr val="009999"/>
                </a:solidFill>
                <a:latin typeface="Comic Sans MS"/>
              </a:rPr>
              <a:t>a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 into f</a:t>
            </a:r>
            <a:r>
              <a:rPr b="0" lang="en-GB" sz="4800" spc="-1" strike="noStrike" baseline="30000">
                <a:solidFill>
                  <a:srgbClr val="ff3300"/>
                </a:solidFill>
                <a:latin typeface="Comic Sans MS"/>
              </a:rPr>
              <a:t>’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(x) to get 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the gradient 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(iii)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fit </a:t>
            </a:r>
            <a:r>
              <a:rPr b="0" lang="en-GB" sz="4800" spc="-1" strike="noStrike">
                <a:solidFill>
                  <a:srgbClr val="009999"/>
                </a:solidFill>
                <a:latin typeface="Comic Sans MS"/>
              </a:rPr>
              <a:t>a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into f(x) to get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he tangent point (a,b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(iv)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use y-b=m(x-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 the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rate of chang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a function at a particular point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3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(i)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 differentia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</a:rPr>
              <a:t>(ii)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</a:rPr>
              <a:t> fit in given x 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</a:rPr>
              <a:t> val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353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y is the equation of a curve, what is represented by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dy/dx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3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The gradi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 where a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urv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increasing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3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)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fferenti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ii)</a:t>
            </a:r>
            <a:r>
              <a:rPr b="0" lang="en-GB" sz="4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let f’(x) =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(iii)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olve to find stationary 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(iv)</a:t>
            </a:r>
            <a:r>
              <a:rPr b="0" lang="en-GB" sz="4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draw natur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v)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ad values for which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aph is increa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0647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would you find the maximum or minimum value of a function given its equation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3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(i)  differenti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9999"/>
                </a:solidFill>
                <a:latin typeface="Comic Sans MS"/>
              </a:rPr>
              <a:t>(ii)  let f’(x) =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(iii) solve to find the 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   stationary po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9999"/>
                </a:solidFill>
                <a:latin typeface="Comic Sans MS"/>
              </a:rPr>
              <a:t>(iv) draw the nature t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(v)  read off max or m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n a rec. relation in the form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u</a:t>
            </a:r>
            <a:r>
              <a:rPr b="0" lang="en-US" sz="60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n+1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= au</a:t>
            </a:r>
            <a:r>
              <a:rPr b="0" lang="en-US" sz="60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n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+ b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3 consecutive terms, how do you find the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values of a and b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4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ff3300"/>
                </a:solidFill>
                <a:latin typeface="Comic Sans MS"/>
              </a:rPr>
              <a:t>Add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the coordinates and </a:t>
            </a:r>
            <a:r>
              <a:rPr b="0" lang="en-GB" sz="5400" spc="-1" strike="noStrike">
                <a:solidFill>
                  <a:srgbClr val="ff3300"/>
                </a:solidFill>
                <a:latin typeface="Comic Sans MS"/>
              </a:rPr>
              <a:t>divide by tw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 baseline="30000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GB" sz="40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GB" sz="5400" spc="-1" strike="noStrike" baseline="30000">
                <a:solidFill>
                  <a:srgbClr val="ff3300"/>
                </a:solidFill>
                <a:latin typeface="Comic Sans MS"/>
              </a:rPr>
              <a:t>+ x</a:t>
            </a:r>
            <a:r>
              <a:rPr b="0" lang="en-GB" sz="40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, </a:t>
            </a:r>
            <a:r>
              <a:rPr b="0" lang="en-GB" sz="5400" spc="-1" strike="noStrike" baseline="30000">
                <a:solidFill>
                  <a:srgbClr val="009999"/>
                </a:solidFill>
                <a:latin typeface="Comic Sans MS"/>
              </a:rPr>
              <a:t>y</a:t>
            </a:r>
            <a:r>
              <a:rPr b="0" lang="en-GB" sz="4000" spc="-1" strike="noStrike" baseline="-25000">
                <a:solidFill>
                  <a:srgbClr val="009999"/>
                </a:solidFill>
                <a:latin typeface="Comic Sans MS"/>
              </a:rPr>
              <a:t>1</a:t>
            </a:r>
            <a:r>
              <a:rPr b="0" lang="en-GB" sz="5400" spc="-1" strike="noStrike" baseline="30000">
                <a:solidFill>
                  <a:srgbClr val="009999"/>
                </a:solidFill>
                <a:latin typeface="Comic Sans MS"/>
              </a:rPr>
              <a:t>+ y</a:t>
            </a:r>
            <a:r>
              <a:rPr b="0" lang="en-GB" sz="4000" spc="-1" strike="noStrike" baseline="-25000">
                <a:solidFill>
                  <a:srgbClr val="009999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800" spc="-1" strike="noStrike">
                <a:solidFill>
                  <a:srgbClr val="009999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40000" y="414972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4149720"/>
            <a:ext cx="1224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3357720"/>
            <a:ext cx="6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(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77400" y="3357720"/>
            <a:ext cx="5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405760" y="2924280"/>
            <a:ext cx="3333240" cy="3073320"/>
            <a:chOff x="5405760" y="2924280"/>
            <a:chExt cx="3333240" cy="3073320"/>
          </a:xfrm>
        </p:grpSpPr>
        <p:sp>
          <p:nvSpPr>
            <p:cNvPr id="66" name=""/>
            <p:cNvSpPr/>
            <p:nvPr/>
          </p:nvSpPr>
          <p:spPr>
            <a:xfrm>
              <a:off x="6264000" y="5708520"/>
              <a:ext cx="22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6480000" y="3332160"/>
              <a:ext cx="0" cy="266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25800" y="549288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3840" y="29242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6264000" y="3621240"/>
              <a:ext cx="1800360" cy="158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797960" y="3181320"/>
              <a:ext cx="816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(x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,y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92720" y="3548160"/>
              <a:ext cx="142920" cy="144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90920" y="5132520"/>
              <a:ext cx="142920" cy="1443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05760" y="5197320"/>
              <a:ext cx="816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(x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,y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(i)   fit 1</a:t>
            </a:r>
            <a:r>
              <a:rPr b="0" lang="en-GB" sz="4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term into u</a:t>
            </a:r>
            <a:r>
              <a:rPr b="0" lang="en-GB" sz="4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GB" sz="4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term into u</a:t>
            </a:r>
            <a:r>
              <a:rPr b="0" lang="en-GB" sz="4800" spc="-1" strike="noStrike" baseline="-25000">
                <a:solidFill>
                  <a:srgbClr val="000000"/>
                </a:solidFill>
                <a:latin typeface="Comic Sans MS"/>
              </a:rPr>
              <a:t>n+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(ii)  fit 2</a:t>
            </a:r>
            <a:r>
              <a:rPr b="0" lang="en-GB" sz="48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 term into u</a:t>
            </a:r>
            <a:r>
              <a:rPr b="0" lang="en-GB" sz="4800" spc="-1" strike="noStrike" baseline="-25000">
                <a:solidFill>
                  <a:srgbClr val="ff3300"/>
                </a:solidFill>
                <a:latin typeface="Comic Sans MS"/>
              </a:rPr>
              <a:t>n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 and 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   the 3</a:t>
            </a:r>
            <a:r>
              <a:rPr b="0" lang="en-GB" sz="4800" spc="-1" strike="noStrike" baseline="30000">
                <a:solidFill>
                  <a:srgbClr val="ff3300"/>
                </a:solidFill>
                <a:latin typeface="Comic Sans MS"/>
              </a:rPr>
              <a:t>rd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 term into u</a:t>
            </a:r>
            <a:r>
              <a:rPr b="0" lang="en-GB" sz="4800" spc="-1" strike="noStrike" baseline="-25000">
                <a:solidFill>
                  <a:srgbClr val="ff3300"/>
                </a:solidFill>
                <a:latin typeface="Comic Sans MS"/>
              </a:rPr>
              <a:t>n+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9999"/>
                </a:solidFill>
                <a:latin typeface="Comic Sans MS"/>
              </a:rPr>
              <a:t>(iii) solve simultaneous </a:t>
            </a:r>
            <a:r>
              <a:rPr b="0" lang="en-GB" sz="4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9999"/>
                </a:solidFill>
                <a:latin typeface="Comic Sans MS"/>
              </a:rPr>
              <a:t>  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 the value of </a:t>
            </a:r>
            <a:r>
              <a:rPr b="0" lang="en-US" sz="4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polynomial </a:t>
            </a:r>
            <a:r>
              <a:rPr b="0" lang="en-US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x</a:t>
            </a:r>
            <a:r>
              <a:rPr b="0" lang="en-US" sz="4800" spc="-1" strike="noStrike" baseline="20000">
                <a:solidFill>
                  <a:srgbClr val="009999"/>
                </a:solidFill>
                <a:latin typeface="Comic Sans MS"/>
                <a:ea typeface="Times New Roman"/>
              </a:rPr>
              <a:t>3</a:t>
            </a:r>
            <a:r>
              <a:rPr b="0" lang="en-US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+</a:t>
            </a:r>
            <a:r>
              <a:rPr b="0" lang="en-US" sz="4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</a:t>
            </a:r>
            <a:r>
              <a:rPr b="0" lang="en-US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x</a:t>
            </a:r>
            <a:r>
              <a:rPr b="0" lang="en-US" sz="4800" spc="-1" strike="noStrike" baseline="20000">
                <a:solidFill>
                  <a:srgbClr val="009999"/>
                </a:solidFill>
                <a:latin typeface="Comic Sans MS"/>
                <a:ea typeface="Times New Roman"/>
              </a:rPr>
              <a:t>2</a:t>
            </a:r>
            <a:r>
              <a:rPr b="0" lang="en-US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+4x+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iven either a factor of the polynomial, or the remainder when the polynomial is divided by a number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1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(i)</a:t>
            </a:r>
            <a:r>
              <a:rPr b="0" lang="en-US" sz="5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do synthetic divi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ii)</a:t>
            </a:r>
            <a:r>
              <a:rPr b="0" lang="en-US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let the expression </a:t>
            </a:r>
            <a:r>
              <a:rPr b="0" lang="en-US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= 0 or the remaind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ii)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lve the equ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∫ 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ax + b)</a:t>
            </a:r>
            <a:r>
              <a:rPr b="0" lang="en-GB" sz="6600" spc="-1" strike="noStrike" baseline="46000">
                <a:solidFill>
                  <a:srgbClr val="009999"/>
                </a:solidFill>
                <a:latin typeface="Comic Sans MS"/>
                <a:ea typeface="Times New Roman"/>
              </a:rPr>
              <a:t>n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dx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2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(i)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increase power by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ii)</a:t>
            </a:r>
            <a:r>
              <a:rPr b="0" lang="en-US" sz="4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divide by new 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ii)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vide by the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rivative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rac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x+b)</a:t>
            </a:r>
            <a:r>
              <a:rPr b="0" lang="en-US" sz="4000" spc="-1" strike="noStrike" baseline="46000">
                <a:solidFill>
                  <a:srgbClr val="000000"/>
                </a:solidFill>
                <a:latin typeface="Comic Sans MS"/>
                <a:ea typeface="Times New Roman"/>
              </a:rPr>
              <a:t>n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(n+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95640" y="558972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23480" y="5229360"/>
            <a:ext cx="92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+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solve equations of the for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sin2x</a:t>
            </a:r>
            <a:r>
              <a:rPr b="0" lang="en-US" sz="6600" spc="-1" strike="noStrike" baseline="50000">
                <a:solidFill>
                  <a:srgbClr val="ff66ff"/>
                </a:solidFill>
                <a:latin typeface="Comic Sans MS"/>
                <a:ea typeface="Times New Roman"/>
              </a:rPr>
              <a:t>o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 = 0.5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0≤x≤36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3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(i)  decide on the 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   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  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  2 quadrants (sin is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ve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(ii)  press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V sin</a:t>
            </a:r>
            <a:r>
              <a:rPr b="0" lang="en-GB" sz="4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 to get </a:t>
            </a:r>
            <a:r>
              <a:rPr b="0" lang="en-GB" sz="4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  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iii) work out your 2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v) divide each by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</a:t>
            </a:r>
            <a:r>
              <a:rPr b="0" lang="en-US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solve equations lik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os2x</a:t>
            </a:r>
            <a:r>
              <a:rPr b="0" lang="en-US" sz="6600" spc="-1" strike="noStrike" baseline="50000">
                <a:solidFill>
                  <a:srgbClr val="ff3300"/>
                </a:solidFill>
                <a:latin typeface="Comic Sans MS"/>
                <a:ea typeface="Times New Roman"/>
              </a:rPr>
              <a:t>o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-5sinx</a:t>
            </a:r>
            <a:r>
              <a:rPr b="0" lang="en-US" sz="6600" spc="-1" strike="noStrike" baseline="50000">
                <a:solidFill>
                  <a:srgbClr val="ff3300"/>
                </a:solidFill>
                <a:latin typeface="Comic Sans MS"/>
                <a:ea typeface="Times New Roman"/>
              </a:rPr>
              <a:t>o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= 0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0≤x≤360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3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(i)</a:t>
            </a:r>
            <a:r>
              <a:rPr b="0" lang="en-GB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fit in 1-2sin</a:t>
            </a:r>
            <a:r>
              <a:rPr b="0" lang="en-GB" sz="6600" spc="-1" strike="noStrike" baseline="30000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0" lang="en-GB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x</a:t>
            </a:r>
            <a:r>
              <a:rPr b="0" lang="en-GB" sz="6600" spc="-1" strike="noStrike" baseline="50000">
                <a:solidFill>
                  <a:srgbClr val="ff3300"/>
                </a:solidFill>
                <a:latin typeface="Comic Sans MS"/>
                <a:ea typeface="Times New Roman"/>
              </a:rPr>
              <a:t>o</a:t>
            </a:r>
            <a:r>
              <a:rPr b="0" lang="en-GB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</a:t>
            </a:r>
            <a:r>
              <a:rPr b="0" lang="en-GB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for cos2x</a:t>
            </a:r>
            <a:r>
              <a:rPr b="0" lang="en-GB" sz="6600" spc="-1" strike="noStrike" baseline="50000">
                <a:solidFill>
                  <a:srgbClr val="ff3300"/>
                </a:solidFill>
                <a:latin typeface="Comic Sans MS"/>
                <a:ea typeface="Times New Roman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(ii)</a:t>
            </a:r>
            <a:r>
              <a:rPr b="0" lang="en-GB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 factori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iii) solve equation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 a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unit vector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parallel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to a given vector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1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 the </a:t>
            </a:r>
            <a:r>
              <a:rPr b="0" lang="en-GB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ltitude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 of </a:t>
            </a:r>
            <a:r>
              <a:rPr b="0" lang="el-GR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Δ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C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1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(i) find the length of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the given vec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(ii) 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divide all the 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   components by 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   this leng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prove that a line is a 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tangent to a circle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67280" y="4005360"/>
            <a:ext cx="1873080" cy="18000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03640" y="486900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003640" y="4508640"/>
            <a:ext cx="1656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4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Rearrange line to 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=</a:t>
            </a:r>
            <a:r>
              <a:rPr b="0" lang="en-US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  or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Substitute line into circ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Prove it has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qual roots</a:t>
            </a:r>
            <a:r>
              <a:rPr b="0" lang="en-US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using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4ac = 0</a:t>
            </a:r>
            <a:r>
              <a:rPr b="0" lang="en-US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or </a:t>
            </a:r>
            <a:r>
              <a:rPr b="0" lang="en-US" sz="4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repeated roo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 the </a:t>
            </a:r>
            <a:r>
              <a:rPr b="0" lang="en-US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angl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tween </a:t>
            </a:r>
            <a:r>
              <a:rPr b="0" lang="en-US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two vectors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1</a:t>
            </a: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18320" cy="4525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60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60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60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48000" y="24922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9236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9564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6728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328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44560" y="1989000"/>
            <a:ext cx="264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cos</a:t>
            </a:r>
            <a:r>
              <a:rPr b="0" lang="en-GB" sz="60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067280" y="3573000"/>
            <a:ext cx="3384360" cy="1612800"/>
            <a:chOff x="4067280" y="3573000"/>
            <a:chExt cx="3384360" cy="1612800"/>
          </a:xfrm>
        </p:grpSpPr>
        <p:sp>
          <p:nvSpPr>
            <p:cNvPr id="225" name=""/>
            <p:cNvSpPr/>
            <p:nvPr/>
          </p:nvSpPr>
          <p:spPr>
            <a:xfrm flipV="1">
              <a:off x="4067280" y="3573000"/>
              <a:ext cx="1512720" cy="151308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067280" y="4221000"/>
              <a:ext cx="3384360" cy="8654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54560" y="4005360"/>
              <a:ext cx="4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96000" y="4726080"/>
              <a:ext cx="4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0560" y="44370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a unit vector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1</a:t>
            </a: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vector of </a:t>
            </a: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length 1 un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vector is equal to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 + CD + BC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7400" y="40384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403848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0384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1</a:t>
            </a: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52480" y="228600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</a:t>
            </a:r>
            <a:r>
              <a:rPr b="0" lang="en-GB" sz="6600" spc="-1" strike="noStrike" u="sng">
                <a:solidFill>
                  <a:srgbClr val="ff66ff"/>
                </a:solidFill>
                <a:uFillTx/>
                <a:latin typeface="Comic Sans MS"/>
                <a:ea typeface="Times New Roman"/>
              </a:rPr>
              <a:t>u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a</a:t>
            </a:r>
            <a:r>
              <a:rPr b="0" lang="en-GB" sz="6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b</a:t>
            </a:r>
            <a:r>
              <a:rPr b="0" lang="en-GB" sz="6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j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c</a:t>
            </a:r>
            <a:r>
              <a:rPr b="0" lang="en-GB" sz="6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n what is </a:t>
            </a:r>
            <a:r>
              <a:rPr b="0" lang="en-GB" sz="6600" spc="-1" strike="noStrike" u="sng">
                <a:solidFill>
                  <a:srgbClr val="ff66ff"/>
                </a:solidFill>
                <a:uFillTx/>
                <a:latin typeface="Comic Sans MS"/>
                <a:ea typeface="Times New Roman"/>
              </a:rPr>
              <a:t>u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component form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1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)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nd the gradient of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(ii)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find the gradient of AN, perpendicular to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iii)</a:t>
            </a:r>
            <a:r>
              <a:rPr b="0" lang="en-GB" sz="4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use y-b=m(x-a), using A as (a,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342680" y="4267080"/>
            <a:ext cx="3996360" cy="2457720"/>
            <a:chOff x="4342680" y="4267080"/>
            <a:chExt cx="3996360" cy="2457720"/>
          </a:xfrm>
        </p:grpSpPr>
        <p:sp>
          <p:nvSpPr>
            <p:cNvPr id="80" name=""/>
            <p:cNvSpPr/>
            <p:nvPr/>
          </p:nvSpPr>
          <p:spPr>
            <a:xfrm flipV="1">
              <a:off x="4630680" y="4483080"/>
              <a:ext cx="100800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38680" y="4483080"/>
              <a:ext cx="2376360" cy="201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flipV="1">
              <a:off x="4630320" y="6211440"/>
              <a:ext cx="3384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5493960" y="4483080"/>
              <a:ext cx="144360" cy="1800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94320" y="61405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38680" y="61405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79280" y="426708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84440" y="6283440"/>
              <a:ext cx="35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42680" y="59961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13600" y="63565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18320" cy="4525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10800" y="2732040"/>
            <a:ext cx="131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0000"/>
                </a:solidFill>
                <a:uFillTx/>
                <a:latin typeface="Comic Sans MS"/>
              </a:rPr>
              <a:t>U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71840" y="1433520"/>
            <a:ext cx="184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01520" y="1844640"/>
            <a:ext cx="65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71760" y="2133720"/>
            <a:ext cx="336600" cy="2447640"/>
          </a:xfrm>
          <a:custGeom>
            <a:avLst/>
            <a:gdLst/>
            <a:ahLst/>
            <a:rect l="l" t="t" r="r" b="b"/>
            <a:pathLst>
              <a:path w="212" h="1542">
                <a:moveTo>
                  <a:pt x="166" y="0"/>
                </a:moveTo>
                <a:cubicBezTo>
                  <a:pt x="109" y="3"/>
                  <a:pt x="53" y="7"/>
                  <a:pt x="30" y="226"/>
                </a:cubicBezTo>
                <a:cubicBezTo>
                  <a:pt x="7" y="445"/>
                  <a:pt x="0" y="1096"/>
                  <a:pt x="30" y="1315"/>
                </a:cubicBezTo>
                <a:cubicBezTo>
                  <a:pt x="60" y="1534"/>
                  <a:pt x="182" y="1504"/>
                  <a:pt x="212" y="154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211640" y="2133720"/>
            <a:ext cx="455760" cy="2447640"/>
          </a:xfrm>
          <a:custGeom>
            <a:avLst/>
            <a:gdLst/>
            <a:ahLst/>
            <a:rect l="l" t="t" r="r" b="b"/>
            <a:pathLst>
              <a:path w="212" h="1542">
                <a:moveTo>
                  <a:pt x="166" y="0"/>
                </a:moveTo>
                <a:cubicBezTo>
                  <a:pt x="109" y="3"/>
                  <a:pt x="53" y="7"/>
                  <a:pt x="30" y="226"/>
                </a:cubicBezTo>
                <a:cubicBezTo>
                  <a:pt x="7" y="445"/>
                  <a:pt x="0" y="1096"/>
                  <a:pt x="30" y="1315"/>
                </a:cubicBezTo>
                <a:cubicBezTo>
                  <a:pt x="60" y="1534"/>
                  <a:pt x="182" y="1504"/>
                  <a:pt x="212" y="154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integrate 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sin ax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2</a:t>
            </a: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6000" spc="-1" strike="noStrike" baseline="-12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 cos ax </a:t>
            </a:r>
            <a:r>
              <a:rPr b="0" lang="en-GB" sz="6000" spc="-1" strike="noStrike">
                <a:solidFill>
                  <a:srgbClr val="ff3300"/>
                </a:solidFill>
                <a:latin typeface="Arial"/>
              </a:rPr>
              <a:t>+ 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would you differentiate a function lik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y = sin</a:t>
            </a:r>
            <a:r>
              <a:rPr b="0" lang="en-US" sz="6600" spc="-1" strike="noStrike" baseline="30000">
                <a:solidFill>
                  <a:srgbClr val="009999"/>
                </a:solidFill>
                <a:latin typeface="Comic Sans MS"/>
                <a:ea typeface="Times New Roman"/>
              </a:rPr>
              <a:t>3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x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2</a:t>
            </a: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18320" cy="4525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99"/>
                </a:solidFill>
                <a:latin typeface="Arial"/>
              </a:rPr>
              <a:t>(i) write as (sin x)</a:t>
            </a:r>
            <a:r>
              <a:rPr b="0" lang="en-GB" sz="4400" spc="-1" strike="noStrike" baseline="30000">
                <a:solidFill>
                  <a:srgbClr val="009999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Arial"/>
              </a:rPr>
              <a:t>(ii) multiply by the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(iii) decrease power b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(iv) multiply by the derivative of the bra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 sin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x cos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71840" y="1433520"/>
            <a:ext cx="184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n experimental data, how do you find an equation in the form 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y=ab</a:t>
            </a:r>
            <a:r>
              <a:rPr b="0" lang="en-GB" sz="6600" spc="-1" strike="noStrike" baseline="46000">
                <a:solidFill>
                  <a:srgbClr val="009999"/>
                </a:solidFill>
                <a:latin typeface="Comic Sans MS"/>
                <a:ea typeface="Times New Roman"/>
              </a:rPr>
              <a:t>x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r </a:t>
            </a:r>
            <a:r>
              <a:rPr b="0" lang="en-GB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y=ax</a:t>
            </a:r>
            <a:r>
              <a:rPr b="0" lang="en-GB" sz="6600" spc="-1" strike="noStrike" baseline="46000">
                <a:solidFill>
                  <a:srgbClr val="ff66ff"/>
                </a:solidFill>
                <a:latin typeface="Comic Sans MS"/>
                <a:ea typeface="Times New Roman"/>
              </a:rPr>
              <a:t>b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3</a:t>
            </a: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18320" cy="4525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(i) take logs of both s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66ff"/>
                </a:solidFill>
                <a:latin typeface="Arial"/>
              </a:rPr>
              <a:t>(ii) rearrange to get a </a:t>
            </a:r>
            <a:r>
              <a:rPr b="0" lang="en-US" sz="4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66ff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66ff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66ff"/>
                </a:solidFill>
                <a:latin typeface="Arial"/>
              </a:rPr>
              <a:t> straight line equ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(iii) determine ty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iv) Equate and solve for a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and 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71840" y="1433520"/>
            <a:ext cx="184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differentiate an expression lik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ithout multiplying it ou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3048120" y="2743200"/>
                <a:ext cx="23302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2</a:t>
            </a: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i) multiply by the po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66ff"/>
                </a:solidFill>
                <a:latin typeface="Arial"/>
              </a:rPr>
              <a:t>(ii) decrease power by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(iii) multiply by 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  derivative of brack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n an equation like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m = m</a:t>
            </a:r>
            <a:r>
              <a:rPr b="0" lang="en-US" sz="6600" spc="-1" strike="noStrike" baseline="-25000">
                <a:solidFill>
                  <a:srgbClr val="009999"/>
                </a:solidFill>
                <a:latin typeface="Comic Sans MS"/>
                <a:ea typeface="Times New Roman"/>
              </a:rPr>
              <a:t>o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e</a:t>
            </a:r>
            <a:r>
              <a:rPr b="0" lang="en-US" sz="6600" spc="-1" strike="noStrike" baseline="30000">
                <a:solidFill>
                  <a:srgbClr val="009999"/>
                </a:solidFill>
                <a:latin typeface="Comic Sans MS"/>
                <a:ea typeface="Times New Roman"/>
              </a:rPr>
              <a:t>-3k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an amount by which it has been decayed, how do you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find k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3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show that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x-1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a factor of the function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f(x)=x</a:t>
            </a:r>
            <a:r>
              <a:rPr b="0" lang="en-US" sz="6600" spc="-1" strike="noStrike" baseline="50000">
                <a:solidFill>
                  <a:srgbClr val="009999"/>
                </a:solidFill>
                <a:latin typeface="Comic Sans MS"/>
                <a:ea typeface="Times New Roman"/>
              </a:rPr>
              <a:t>3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-3x+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1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18320" cy="4525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i)  fit in m and m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ii) rearrange to get 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e</a:t>
            </a:r>
            <a:r>
              <a:rPr b="0" lang="en-US" sz="5400" spc="-1" strike="noStrike" baseline="30000">
                <a:solidFill>
                  <a:srgbClr val="009999"/>
                </a:solidFill>
                <a:latin typeface="Arial"/>
              </a:rPr>
              <a:t>-3k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iii) take logs to get -3k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iv) solve for 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log</a:t>
            </a:r>
            <a:r>
              <a:rPr b="0" lang="en-GB" sz="6600" spc="-1" strike="noStrike" baseline="-25000">
                <a:solidFill>
                  <a:srgbClr val="009999"/>
                </a:solidFill>
                <a:latin typeface="Comic Sans MS"/>
                <a:ea typeface="Times New Roman"/>
              </a:rPr>
              <a:t>a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x + log</a:t>
            </a:r>
            <a:r>
              <a:rPr b="0" lang="en-GB" sz="6600" spc="-1" strike="noStrike" baseline="-25000">
                <a:solidFill>
                  <a:srgbClr val="009999"/>
                </a:solidFill>
                <a:latin typeface="Comic Sans MS"/>
                <a:ea typeface="Times New Roman"/>
              </a:rPr>
              <a:t>a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y 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qual to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3</a:t>
            </a: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18320" cy="4525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GB" sz="6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 x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solve equations of the for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6600" spc="-1" strike="noStrike" baseline="62000">
                <a:solidFill>
                  <a:srgbClr val="009999"/>
                </a:solidFill>
                <a:latin typeface="Comic Sans MS"/>
                <a:ea typeface="Times New Roman"/>
              </a:rPr>
              <a:t>x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0.155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3</a:t>
            </a: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18320" cy="4525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(i) take logs of both sid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66ff"/>
                </a:solidFill>
                <a:latin typeface="Arial"/>
              </a:rPr>
              <a:t>(ii) bring x down to fro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(iii) solve the equ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71840" y="1433520"/>
            <a:ext cx="184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</a:t>
            </a:r>
            <a:r>
              <a:rPr b="0" lang="en-GB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log</a:t>
            </a:r>
            <a:r>
              <a:rPr b="0" lang="en-GB" sz="6600" spc="-1" strike="noStrike" baseline="-25000">
                <a:solidFill>
                  <a:srgbClr val="009999"/>
                </a:solidFill>
                <a:latin typeface="Comic Sans MS"/>
                <a:ea typeface="Times New Roman"/>
              </a:rPr>
              <a:t>a</a:t>
            </a:r>
            <a:r>
              <a:rPr b="0" lang="en-GB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x</a:t>
            </a:r>
            <a:r>
              <a:rPr b="0" lang="en-GB" sz="6600" spc="-1" strike="noStrike" baseline="30000">
                <a:solidFill>
                  <a:srgbClr val="009999"/>
                </a:solidFill>
                <a:latin typeface="Comic Sans MS"/>
                <a:ea typeface="Times New Roman"/>
              </a:rPr>
              <a:t>n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qual to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3</a:t>
            </a: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18320" cy="4525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6000" spc="-1" strike="noStrike">
                <a:solidFill>
                  <a:srgbClr val="009999"/>
                </a:solidFill>
                <a:latin typeface="Arial"/>
              </a:rPr>
              <a:t>n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GB" sz="6000" spc="-1" strike="noStrike" baseline="-25000">
                <a:solidFill>
                  <a:srgbClr val="009999"/>
                </a:solidFill>
                <a:latin typeface="Arial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71840" y="1433520"/>
            <a:ext cx="184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f y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should you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write y so it is read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 differentiat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743200" y="1295280"/>
                <a:ext cx="7970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3</a:t>
            </a: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990360" y="1294920"/>
            <a:ext cx="3281400" cy="2187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514600" y="1752480"/>
                <a:ext cx="225576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 the maximum or minimum values o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cosx + bsinx + c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4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)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write the function 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(x)=x</a:t>
            </a:r>
            <a:r>
              <a:rPr b="0" lang="en-US" sz="4800" spc="-1" strike="noStrike" baseline="5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4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US" sz="4800" spc="-1" strike="noStrike" baseline="5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3x+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i)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 synthetic division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ith </a:t>
            </a:r>
            <a:r>
              <a:rPr b="0" lang="en-US" sz="4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n the outs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ii)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how th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remainder = 0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estion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(i) change 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0" spc="-1" strike="noStrike">
                <a:solidFill>
                  <a:srgbClr val="ff3300"/>
                </a:solidFill>
                <a:latin typeface="Arial"/>
              </a:rPr>
              <a:t>acosx+bsinx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0" spc="-1" strike="noStrike">
                <a:solidFill>
                  <a:srgbClr val="009999"/>
                </a:solidFill>
                <a:latin typeface="Arial"/>
              </a:rPr>
              <a:t>Rcos(x-a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(ii) </a:t>
            </a:r>
            <a:r>
              <a:rPr b="0" lang="en-GB" sz="6000" spc="-1" strike="noStrike">
                <a:solidFill>
                  <a:srgbClr val="ff3300"/>
                </a:solidFill>
                <a:latin typeface="Arial"/>
              </a:rPr>
              <a:t>max is R+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what 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values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is function 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undefined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(x)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	</a:t>
            </a:r>
            <a:r>
              <a:rPr b="0" lang="en-US" sz="6000" spc="-1" strike="noStrike" u="sng" baseline="20000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x</a:t>
            </a:r>
            <a:r>
              <a:rPr b="0" lang="en-US" sz="6000" spc="-1" strike="noStrike" u="sng" baseline="30000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	</a:t>
            </a:r>
            <a:r>
              <a:rPr b="0" lang="en-US" sz="6000" spc="-1" strike="noStrike" u="sng" baseline="30000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x+2)(x-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ill H Black</cp:lastModifiedBy>
  <dcterms:modified xsi:type="dcterms:W3CDTF">2007-10-21T21:00:36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