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2B5-E975-46B3-9A05-FC3CB1F8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A33-382A-43E1-9354-2BDD2696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CB0-AB7B-4E69-8F1D-22B71BF3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A50-661B-4FA3-9727-58B6FD00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86F-EC11-494D-97D8-BEABC20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537-82AC-4257-B6E6-F86C4A2C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73D-391A-4965-9A56-DC800D3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B8C-68EE-4B8C-B855-2908893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572-0A25-40EE-A621-BC975F9C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48A-5EAE-40DD-999E-7C30974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8BF-4C1F-4998-A110-982848B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4EA-4BB0-4257-B036-792DF46D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478-A38D-4058-84F6-DCA79862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oot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n equation between two given values to 1 dp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 = </a:t>
            </a:r>
            <a:r>
              <a:rPr b="0" lang="en-GB" sz="54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</a:rPr>
              <a:t>-b</a:t>
            </a:r>
            <a:r>
              <a:rPr b="0" lang="en-US" sz="54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</a:rPr>
              <a:t>±</a:t>
            </a:r>
            <a:r>
              <a:rPr b="0" lang="en-GB" sz="5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√(</a:t>
            </a:r>
            <a:r>
              <a:rPr b="0" lang="en-GB" sz="54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</a:rPr>
              <a:t>b</a:t>
            </a:r>
            <a:r>
              <a:rPr b="0" lang="en-GB" sz="5400" spc="-1" strike="noStrike" u="sng" baseline="30000">
                <a:solidFill>
                  <a:srgbClr val="009999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lang="en-GB" sz="54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</a:rPr>
              <a:t>-4a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2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It is used to find roots of a quadratic equation when it is difficult to factori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olve quadratic inequations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5x-6 ≥ 0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actor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draw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read x values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where graph is on or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bove x-ax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quadratic inequations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5x + 6 &lt; 0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factor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raw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read x values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where graph is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below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-ax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condition for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no real root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b</a:t>
            </a:r>
            <a:r>
              <a:rPr b="0" lang="en-GB" sz="54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– 4ac &lt;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a curve crosses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-axi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ubstitute x=0 into equation to find y val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condition for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eal root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eration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4ac ≥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a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lin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ircle intersec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Rearrange line to g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 = …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r y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ubstitute into circle equation and sol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factoris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ubi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xpression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 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x</a:t>
            </a:r>
            <a:r>
              <a:rPr b="0" lang="en-US" sz="60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-2x</a:t>
            </a:r>
            <a:r>
              <a:rPr b="0" lang="en-US" sz="60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-x+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nthetic division using factors of last numb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25040" y="4724280"/>
            <a:ext cx="6643440" cy="1586880"/>
            <a:chOff x="1625040" y="4724280"/>
            <a:chExt cx="6643440" cy="1586880"/>
          </a:xfrm>
        </p:grpSpPr>
        <p:sp>
          <p:nvSpPr>
            <p:cNvPr id="93" name=""/>
            <p:cNvSpPr/>
            <p:nvPr/>
          </p:nvSpPr>
          <p:spPr>
            <a:xfrm>
              <a:off x="262728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27280" y="580536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2720" y="580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92720" y="6237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71400" y="585144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Comic Sans MS"/>
                </a:rPr>
                <a:t>Remainder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5040" y="472428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Comic Sans MS"/>
                </a:rPr>
                <a:t>fa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2120" y="479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1600" y="479736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7800" y="4821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22680" y="482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059280" y="5157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03640" y="566064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566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566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566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067280" y="566064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03640" y="566064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∫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x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352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6000" spc="-1" strike="noStrike" baseline="40000">
                <a:solidFill>
                  <a:srgbClr val="ff3300"/>
                </a:solidFill>
                <a:latin typeface="Comic Sans MS"/>
                <a:ea typeface="Times New Roman"/>
              </a:rPr>
              <a:t>3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3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hen  </a:t>
            </a:r>
            <a:r>
              <a:rPr b="0" lang="en-GB" sz="6000" spc="-1" strike="noStrike" baseline="40000">
                <a:solidFill>
                  <a:srgbClr val="ff66ff"/>
                </a:solidFill>
                <a:latin typeface="Comic Sans MS"/>
                <a:ea typeface="Times New Roman"/>
              </a:rPr>
              <a:t>1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/</a:t>
            </a:r>
            <a:r>
              <a:rPr b="0" lang="en-GB" sz="6000" spc="-1" strike="noStrike" baseline="-12000">
                <a:solidFill>
                  <a:srgbClr val="ff66ff"/>
                </a:solidFill>
                <a:latin typeface="Comic Sans MS"/>
                <a:ea typeface="Times New Roman"/>
              </a:rPr>
              <a:t>4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[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GB" sz="60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) - (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GB" sz="60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)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24922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557360"/>
            <a:ext cx="7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[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18240" y="1557360"/>
            <a:ext cx="58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560" y="16286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57160" y="2852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integrate x</a:t>
            </a:r>
            <a:r>
              <a:rPr b="0" lang="en-US" sz="66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n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72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72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72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n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637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23240" y="2060640"/>
            <a:ext cx="14090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+ 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alculate the area under a curv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urv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osses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-axi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integ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ubstitute in two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limits and subtract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to find area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xact valu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(A+B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os(A-B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t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osA = </a:t>
            </a:r>
            <a:r>
              <a:rPr b="0" lang="en-GB" sz="5400" spc="-1" strike="noStrike" baseline="30000">
                <a:solidFill>
                  <a:srgbClr val="ff66ff"/>
                </a:solidFill>
                <a:latin typeface="Comic Sans MS"/>
                <a:ea typeface="Times New Roman"/>
              </a:rPr>
              <a:t>3</a:t>
            </a:r>
            <a:r>
              <a:rPr b="0" lang="en-GB" sz="5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/</a:t>
            </a:r>
            <a:r>
              <a:rPr b="0" lang="en-GB" sz="5400" spc="-1" strike="noStrike" baseline="-20000">
                <a:solidFill>
                  <a:srgbClr val="ff66ff"/>
                </a:solidFill>
                <a:latin typeface="Comic Sans MS"/>
                <a:ea typeface="Times New Roman"/>
              </a:rPr>
              <a:t>5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B = </a:t>
            </a:r>
            <a:r>
              <a:rPr b="0" lang="en-GB" sz="54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12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/</a:t>
            </a:r>
            <a:r>
              <a:rPr b="0" lang="en-GB" sz="5400" spc="-1" strike="noStrike" baseline="-20000">
                <a:solidFill>
                  <a:srgbClr val="009999"/>
                </a:solidFill>
                <a:latin typeface="Comic Sans MS"/>
                <a:ea typeface="Times New Roman"/>
              </a:rPr>
              <a:t>13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</a:t>
            </a:r>
            <a:r>
              <a:rPr b="0" lang="el-GR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Δ</a:t>
            </a:r>
            <a:r>
              <a:rPr b="0" lang="en-GB" sz="3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i)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v)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ubstitute in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from </a:t>
            </a:r>
            <a:r>
              <a:rPr b="0" lang="el-GR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Δ</a:t>
            </a:r>
            <a:r>
              <a:rPr b="0" lang="en-GB" sz="3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s using SOH CAH TO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766840" y="1341360"/>
            <a:ext cx="2405520" cy="1800360"/>
            <a:chOff x="5766840" y="1341360"/>
            <a:chExt cx="2405520" cy="1800360"/>
          </a:xfrm>
        </p:grpSpPr>
        <p:sp>
          <p:nvSpPr>
            <p:cNvPr id="136" name=""/>
            <p:cNvSpPr/>
            <p:nvPr/>
          </p:nvSpPr>
          <p:spPr>
            <a:xfrm>
              <a:off x="6084720" y="1628640"/>
              <a:ext cx="2087640" cy="15130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11120" y="13413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66840" y="213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9600" y="2125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2997360"/>
              <a:ext cx="1429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54920" y="31240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62720" y="3276720"/>
            <a:ext cx="2879640" cy="1762200"/>
            <a:chOff x="5562720" y="3276720"/>
            <a:chExt cx="2879640" cy="1762200"/>
          </a:xfrm>
        </p:grpSpPr>
        <p:sp>
          <p:nvSpPr>
            <p:cNvPr id="143" name=""/>
            <p:cNvSpPr/>
            <p:nvPr/>
          </p:nvSpPr>
          <p:spPr>
            <a:xfrm>
              <a:off x="5562720" y="3276720"/>
              <a:ext cx="2879640" cy="144144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89000" y="46706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76280" y="363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4573800"/>
              <a:ext cx="1429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equations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os2x</a:t>
            </a:r>
            <a:r>
              <a:rPr b="0" lang="en-US" sz="60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- 5cosx</a:t>
            </a:r>
            <a:r>
              <a:rPr b="0" lang="en-US" sz="60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= 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 ≤ x ≤ 36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3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 Substitute 2cos</a:t>
            </a:r>
            <a:r>
              <a:rPr b="0" lang="en-GB" sz="44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GB" sz="48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-1 for cos2x</a:t>
            </a:r>
            <a:r>
              <a:rPr b="0" lang="en-GB" sz="4800" spc="-1" strike="noStrike" baseline="50000">
                <a:solidFill>
                  <a:srgbClr val="009999"/>
                </a:solidFill>
                <a:latin typeface="Comic Sans MS"/>
                <a:ea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 Make RHS=0 and then facto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se c for cos x</a:t>
            </a:r>
            <a:r>
              <a:rPr b="0" lang="en-GB" sz="4800" spc="-1" strike="noStrike" baseline="5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f you lik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i)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lve for cos x</a:t>
            </a:r>
            <a:r>
              <a:rPr b="0" lang="en-GB" sz="4800" spc="-1" strike="noStrike" baseline="50000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and hence for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entr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diu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circle of the 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60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+y</a:t>
            </a:r>
            <a:r>
              <a:rPr b="0" lang="en-US" sz="60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+2gx+2fy+c=0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entre (-g,-f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dius </a:t>
            </a:r>
            <a:r>
              <a:rPr b="0" lang="en-GB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√(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</a:t>
            </a:r>
            <a:r>
              <a:rPr b="0" lang="en-GB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f</a:t>
            </a:r>
            <a:r>
              <a:rPr b="0" lang="en-GB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-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ent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radiu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circle with equation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y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= r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entre (0,0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radius = r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entr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radiu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circle of the 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-a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(y-b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Let y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r f(x)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solve for x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e (a,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us =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00720" y="2637000"/>
            <a:ext cx="3392640" cy="3071520"/>
            <a:chOff x="4500720" y="2637000"/>
            <a:chExt cx="3392640" cy="3071520"/>
          </a:xfrm>
        </p:grpSpPr>
        <p:sp>
          <p:nvSpPr>
            <p:cNvPr id="164" name=""/>
            <p:cNvSpPr/>
            <p:nvPr/>
          </p:nvSpPr>
          <p:spPr>
            <a:xfrm>
              <a:off x="4500720" y="5349960"/>
              <a:ext cx="30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932360" y="2973240"/>
              <a:ext cx="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0160" y="51577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69280" y="2637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3080" y="3621240"/>
              <a:ext cx="1440000" cy="1439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00720" y="4340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373800" y="3836520"/>
              <a:ext cx="503280" cy="5050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05440" y="38368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14400" y="429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2720" y="41972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76680" y="386064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equations l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343400"/>
            <a:ext cx="22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0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9264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4 -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941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)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multiply by the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enominator of the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raction (here x</a:t>
            </a:r>
            <a:r>
              <a:rPr b="0" lang="en-GB" sz="54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ctorise and sol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condition fo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qual root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2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b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2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– 4ac =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quadratic formul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explain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n it is used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.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ll H Black</cp:lastModifiedBy>
  <dcterms:modified xsi:type="dcterms:W3CDTF">2007-10-13T21:03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