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B3A-0EAF-4DC5-BB6C-E7CA2BD2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844-E041-43B3-B602-4CCC99F7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D9F-274E-4791-B1B0-6081034A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037-CCD3-4018-9ED4-B1A86CB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7AA-1AA2-4B61-85A0-9836563C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ADB-661C-4D55-A359-0FD2158D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94B-262B-4335-B1D0-21185D95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F54-99AB-4570-949F-1B3E5D7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A3F-8E91-4977-8BB5-DE72CBC1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870-669F-4C53-8074-3C377BF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7AA-4BAA-45E0-B98B-9EC4606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E4D-AEC9-43F1-B97D-0090FB9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69A-2DB3-4332-9B14-A0297445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ine rul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 =  y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y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x</a:t>
            </a:r>
            <a:r>
              <a:rPr b="0" lang="en-GB" sz="5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565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19640" y="3141720"/>
            <a:ext cx="4754520" cy="3168360"/>
            <a:chOff x="3419640" y="3141720"/>
            <a:chExt cx="4754520" cy="3168360"/>
          </a:xfrm>
        </p:grpSpPr>
        <p:grpSp>
          <p:nvGrpSpPr>
            <p:cNvPr id="79" name=""/>
            <p:cNvGrpSpPr/>
            <p:nvPr/>
          </p:nvGrpSpPr>
          <p:grpSpPr>
            <a:xfrm>
              <a:off x="3419640" y="3429000"/>
              <a:ext cx="4704480" cy="2881080"/>
              <a:chOff x="3419640" y="3429000"/>
              <a:chExt cx="4704480" cy="2881080"/>
            </a:xfrm>
          </p:grpSpPr>
          <p:sp>
            <p:nvSpPr>
              <p:cNvPr id="80" name=""/>
              <p:cNvSpPr/>
              <p:nvPr/>
            </p:nvSpPr>
            <p:spPr>
              <a:xfrm flipV="1">
                <a:off x="4859280" y="350172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19640" y="5229360"/>
                <a:ext cx="44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4356000" y="3645000"/>
                <a:ext cx="2807640" cy="1224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92280" y="4822920"/>
                <a:ext cx="91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A(x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,y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05400" y="3429000"/>
                <a:ext cx="91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B(x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,y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873200" y="50385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31040" y="31417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in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 + cos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to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Theorem of Pythagoras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For </a:t>
            </a:r>
            <a:r>
              <a:rPr b="0" lang="el-GR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Δ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ABC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right-angled at A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a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MS Mincho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 = b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MS Mincho"/>
              </a:rPr>
              <a:t>2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+ c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MS Mincho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66400" y="3597120"/>
            <a:ext cx="4574520" cy="2529000"/>
            <a:chOff x="2966400" y="3597120"/>
            <a:chExt cx="4574520" cy="2529000"/>
          </a:xfrm>
        </p:grpSpPr>
        <p:sp>
          <p:nvSpPr>
            <p:cNvPr id="96" name=""/>
            <p:cNvSpPr/>
            <p:nvPr/>
          </p:nvSpPr>
          <p:spPr>
            <a:xfrm flipH="1">
              <a:off x="3419640" y="3789360"/>
              <a:ext cx="3673440" cy="19447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55720" y="5613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66400" y="5541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15480" y="3597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28760" y="44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1600" y="5757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43120" y="467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7080" y="5516640"/>
              <a:ext cx="216000" cy="21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 the cosine rule to find a missing s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b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c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2bcco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62200" y="3357720"/>
            <a:ext cx="5371200" cy="2529000"/>
            <a:chOff x="1762200" y="3357720"/>
            <a:chExt cx="5371200" cy="2529000"/>
          </a:xfrm>
        </p:grpSpPr>
        <p:sp>
          <p:nvSpPr>
            <p:cNvPr id="109" name=""/>
            <p:cNvSpPr/>
            <p:nvPr/>
          </p:nvSpPr>
          <p:spPr>
            <a:xfrm flipV="1">
              <a:off x="2071440" y="3620880"/>
              <a:ext cx="259236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071440" y="5205600"/>
              <a:ext cx="468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63800" y="3621240"/>
              <a:ext cx="208764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8240" y="3357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03280" y="50151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2200" y="5518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2400" y="53740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8200" y="429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5400" y="40784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does a fractional index number indic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eg   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92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92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920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means there is a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g  x   =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√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32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324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 the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osine rul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find an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b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A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inb    sin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263700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263700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263700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1520" y="2060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3880" y="2060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54400" y="3813120"/>
            <a:ext cx="5371200" cy="2529000"/>
            <a:chOff x="1454400" y="3813120"/>
            <a:chExt cx="5371200" cy="2529000"/>
          </a:xfrm>
        </p:grpSpPr>
        <p:sp>
          <p:nvSpPr>
            <p:cNvPr id="51" name=""/>
            <p:cNvSpPr/>
            <p:nvPr/>
          </p:nvSpPr>
          <p:spPr>
            <a:xfrm flipV="1">
              <a:off x="1763640" y="4076280"/>
              <a:ext cx="259236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763640" y="5661000"/>
              <a:ext cx="468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6000" y="4076640"/>
              <a:ext cx="208764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20440" y="38131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95480" y="5470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54400" y="5973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44600" y="5829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50400" y="4749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7600" y="4533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A =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</a:t>
            </a:r>
            <a:r>
              <a:rPr b="0" lang="en-GB" sz="5400" spc="-1" strike="noStrike" u="sng" baseline="3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+ c</a:t>
            </a:r>
            <a:r>
              <a:rPr b="0" lang="en-GB" sz="5400" spc="-1" strike="noStrike" u="sng" baseline="3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- a</a:t>
            </a:r>
            <a:r>
              <a:rPr b="0" lang="en-GB" sz="5400" spc="-1" strike="noStrike" u="sng" baseline="30000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b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33840" y="3645000"/>
            <a:ext cx="5371200" cy="2529000"/>
            <a:chOff x="1833840" y="3645000"/>
            <a:chExt cx="5371200" cy="2529000"/>
          </a:xfrm>
        </p:grpSpPr>
        <p:sp>
          <p:nvSpPr>
            <p:cNvPr id="133" name=""/>
            <p:cNvSpPr/>
            <p:nvPr/>
          </p:nvSpPr>
          <p:spPr>
            <a:xfrm flipV="1">
              <a:off x="2143080" y="3908160"/>
              <a:ext cx="259236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3080" y="5492880"/>
              <a:ext cx="468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35440" y="3908520"/>
              <a:ext cx="208764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99880" y="3645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74920" y="5302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3840" y="5805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24040" y="5661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9840" y="4581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7040" y="436572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hree processe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you go through in order to 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actorise a quadratic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(i)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MS Mincho"/>
              </a:rPr>
              <a:t>common fa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(ii)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difference of two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  <a:ea typeface="MS Mincho"/>
              </a:rPr>
              <a:t>squa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(iii)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trinomial (put in 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	</a:t>
            </a:r>
            <a:r>
              <a:rPr b="0" lang="en-US" sz="5400" spc="-1" strike="noStrike">
                <a:solidFill>
                  <a:srgbClr val="009999"/>
                </a:solidFill>
                <a:latin typeface="Comic Sans MS"/>
                <a:ea typeface="MS Mincho"/>
              </a:rPr>
              <a:t>bracket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 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al to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09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n 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lve equations of the 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sx</a:t>
            </a:r>
            <a:r>
              <a:rPr b="0" lang="en-GB" sz="6000" spc="-1" strike="noStrike" baseline="50000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= - 0.8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≤x≤36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Credit revision Q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(i)  decide on the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 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2 quadrants (cos is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ve</a:t>
            </a:r>
            <a:r>
              <a:rPr b="0" lang="en-GB" sz="4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(ii)  ignore the sign and 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press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 cos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to get 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	</a:t>
            </a:r>
            <a:r>
              <a:rPr b="0" lang="en-GB" sz="48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  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iii) work out your 2 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 Q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find the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gradient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line joining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wo point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ll H Black</cp:lastModifiedBy>
  <dcterms:modified xsi:type="dcterms:W3CDTF">2007-10-13T20:32:2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